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00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0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296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57240" y="739440"/>
            <a:ext cx="49370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37548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2960" y="937548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78EA-6425-4252-BFC0-4551E50BA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1447-4E92-443C-9794-3AE6D2605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BA26-E6FA-453A-8E7C-9C8203672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0767-2A2E-4891-B8E9-072302EC4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55A-3612-4721-9A1F-9E55D482C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124B-EB06-40EF-85E5-2A1CC30EF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2060-6C49-4887-B9E0-22EA4B9BE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2473-24B1-4161-B007-BAEBBD230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D3D6-054C-42AB-8B89-B91B80DF0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9647-3377-4A35-A1D6-AA5C8228F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4028-810B-418F-A031-677435094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0412-6B5E-4C35-9612-BBDA52940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DC83-D3BC-4011-84D8-D5EB5397B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A903-12E9-48ED-B4FD-E266C3E3D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ECD9-3384-434C-B496-12E92C1A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B1A2-D794-4194-B60C-17EF9524E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C0FF-D792-41A7-B7D9-61016CA62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B861-3B8A-4527-8E6D-30318044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530D-9FEC-489D-B21B-E3BC215D6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CC76-411C-4753-81B3-DE39A7F94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0361-9C9C-4914-86F8-961A1ED5E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722E-C9EF-4EE0-A42F-D63B58688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DE60-C982-4641-BFEE-CEEAC8D42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85B0-C9BE-4199-9B36-BC7A1FBC3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6459-6B0B-4E9F-9988-9C991E341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A31-E95E-473A-B618-CE7E236A7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E09B-7BCF-4839-A629-D47DB3031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1626-ABDA-4C5B-A372-B3DBEBC62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276B-941C-4979-99A3-4EF132E2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8B83-5B57-4651-8E96-AD3C61E0F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E3A-BE85-4813-A30B-68E8F2281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FBA-69AE-4F02-A269-8695C74BC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03FE-AF70-445A-81AE-A8429FCFC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49CA-936A-4760-B8CD-49C446CAC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8491-33DC-4825-AF06-BEC557585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DC6B-718A-4102-9467-A4DF6A24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D964-4121-4D1D-A34A-5501EC61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869C-739E-41A2-837B-3D174E02C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EB7-C713-4DA6-9E67-5F3F55A69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71B8-5F67-4119-8D0F-73D1CEB38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86B0-71AF-4ADC-93A5-14B971B2D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6F80-B89B-41F3-8E8B-EC4DA5ABF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92A3-541E-4F45-B895-5E57603DA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021-A93C-478C-8D31-26083462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843-6768-418A-AF29-040D931B4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2960" y="937584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7E9D-2792-4979-A23F-35E51A5DA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7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2600" y="4687920"/>
            <a:ext cx="5025960" cy="44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D89-B373-4DEC-B731-18FB390A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361-20DD-4AC4-BB20-7DE6E1F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ADF-7AD1-42C2-A1B2-6CE21804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C4D-A172-4A72-B0B7-B9D122CD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CBE-756E-42FB-AB56-9CC05963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6CB-3701-4EC7-AB89-49264739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139-9DBB-44F2-9F26-74C36E2C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63F-D538-4248-B169-96D1CC1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773-A3BB-432E-A341-41C87E56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6B0-62A5-4BE1-AA78-DC6DACCB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C61-13D8-4304-B4E8-383A45EC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480-16A8-4A54-8A6A-DBE1CC79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B10-7DEF-48E8-AEAF-2865F7A8F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5" name="Picture 9" descr="F:\website docs\graphics5\asybackgfade.gif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4817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2286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CTAD 2000</a:t>
            </a:r>
            <a:endParaRPr b="1" lang="en-US" sz="1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9E0B-79F0-4E35-BACE-07BF5967AF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" name="AutoShape 12">
            <a:hlinkClick r:id="" action="ppaction://hlinkshowjump?jump=firstslide"/>
          </p:cNvPr>
          <p:cNvSpPr/>
          <p:nvPr/>
        </p:nvSpPr>
        <p:spPr>
          <a:xfrm>
            <a:off x="792468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" name="AutoShape 13">
            <a:hlinkClick r:id="" action="ppaction://hlinkshowjump?jump=endshow"/>
          </p:cNvPr>
          <p:cNvSpPr/>
          <p:nvPr/>
        </p:nvSpPr>
        <p:spPr>
          <a:xfrm>
            <a:off x="853452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4"/>
          <p:cNvSpPr/>
          <p:nvPr/>
        </p:nvSpPr>
        <p:spPr>
          <a:xfrm>
            <a:off x="1066680" y="533520"/>
            <a:ext cx="72392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54" name="Picture 21" descr="F:\website docs\graphics5\asycuda logo.gif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238572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320" y="243792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isk Management process steps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 are a generic guide for </a:t>
            </a:r>
            <a:br>
              <a:rPr sz="2600"/>
            </a:b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any organisation, regardless of the </a:t>
            </a:r>
            <a:br>
              <a:rPr sz="2600"/>
            </a:b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type of business, activity or function.</a:t>
            </a:r>
            <a:r>
              <a:rPr b="1" lang="en-US" sz="26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is Risk Management used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5" name="AutoShape 3">
            <a:hlinkClick r:id="" action="ppaction://hlinkshowjump?jump=nextslide"/>
          </p:cNvPr>
          <p:cNvSpPr/>
          <p:nvPr/>
        </p:nvSpPr>
        <p:spPr>
          <a:xfrm>
            <a:off x="838188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06" name="Group 65"/>
          <p:cNvGrpSpPr/>
          <p:nvPr/>
        </p:nvGrpSpPr>
        <p:grpSpPr>
          <a:xfrm>
            <a:off x="5029200" y="2133720"/>
            <a:ext cx="3885840" cy="3606480"/>
            <a:chOff x="5029200" y="2133720"/>
            <a:chExt cx="3885840" cy="3606480"/>
          </a:xfrm>
        </p:grpSpPr>
        <p:sp>
          <p:nvSpPr>
            <p:cNvPr id="107" name="Oval 10"/>
            <p:cNvSpPr/>
            <p:nvPr/>
          </p:nvSpPr>
          <p:spPr>
            <a:xfrm>
              <a:off x="5715000" y="2590920"/>
              <a:ext cx="2590920" cy="2590560"/>
            </a:xfrm>
            <a:prstGeom prst="ellipse">
              <a:avLst/>
            </a:prstGeom>
            <a:solidFill>
              <a:srgbClr val="00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There are</a:t>
              </a:r>
              <a:r>
                <a:rPr b="1" lang="en-US" sz="2400" spc="-1" strike="noStrike">
                  <a:solidFill>
                    <a:srgbClr val="ffff99"/>
                  </a:solidFill>
                  <a:latin typeface="Comic Sans MS"/>
                </a:rPr>
                <a:t> </a:t>
              </a:r>
              <a:endParaRPr b="1" lang="en-US" sz="2400" spc="-1" strike="noStrike">
                <a:solidFill>
                  <a:srgbClr val="ccec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99"/>
                  </a:solidFill>
                  <a:latin typeface="Comic Sans MS"/>
                </a:rPr>
                <a:t>7</a:t>
              </a:r>
              <a:r>
                <a:rPr b="1" lang="en-US" sz="2400" spc="-1" strike="noStrike">
                  <a:solidFill>
                    <a:srgbClr val="ffff99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steps</a:t>
              </a:r>
              <a:endParaRPr b="1" lang="en-US" sz="2400" spc="-1" strike="noStrike">
                <a:solidFill>
                  <a:srgbClr val="ccec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in the RM </a:t>
              </a:r>
              <a:endParaRPr b="1" lang="en-US" sz="2400" spc="-1" strike="noStrike">
                <a:solidFill>
                  <a:srgbClr val="ccecff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Comic Sans MS"/>
                </a:rPr>
                <a:t>process</a:t>
              </a:r>
              <a:endParaRPr b="1" lang="en-US" sz="24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grpSp>
          <p:nvGrpSpPr>
            <p:cNvPr id="108" name="Group 56"/>
            <p:cNvGrpSpPr/>
            <p:nvPr/>
          </p:nvGrpSpPr>
          <p:grpSpPr>
            <a:xfrm>
              <a:off x="5029200" y="2133720"/>
              <a:ext cx="3885840" cy="3606480"/>
              <a:chOff x="5029200" y="2133720"/>
              <a:chExt cx="3885840" cy="3606480"/>
            </a:xfrm>
          </p:grpSpPr>
          <p:sp>
            <p:nvSpPr>
              <p:cNvPr id="109" name="Freeform 57"/>
              <p:cNvSpPr/>
              <p:nvPr/>
            </p:nvSpPr>
            <p:spPr>
              <a:xfrm>
                <a:off x="5378760" y="2133720"/>
                <a:ext cx="1405800" cy="1328040"/>
              </a:xfrm>
              <a:custGeom>
                <a:avLst/>
                <a:gdLst>
                  <a:gd name="textAreaLeft" fmla="*/ 0 w 1405800"/>
                  <a:gd name="textAreaRight" fmla="*/ 1406160 w 1405800"/>
                  <a:gd name="textAreaTop" fmla="*/ 0 h 1328040"/>
                  <a:gd name="textAreaBottom" fmla="*/ 1328400 h 1328040"/>
                </a:gdLst>
                <a:ahLst/>
                <a:rect l="textAreaLeft" t="textAreaTop" r="textAreaRight" b="textAreaBottom"/>
                <a:pathLst>
                  <a:path w="1016" h="904">
                    <a:moveTo>
                      <a:pt x="0" y="717"/>
                    </a:moveTo>
                    <a:lnTo>
                      <a:pt x="10" y="698"/>
                    </a:lnTo>
                    <a:lnTo>
                      <a:pt x="20" y="683"/>
                    </a:lnTo>
                    <a:lnTo>
                      <a:pt x="29" y="667"/>
                    </a:lnTo>
                    <a:lnTo>
                      <a:pt x="38" y="652"/>
                    </a:lnTo>
                    <a:lnTo>
                      <a:pt x="48" y="635"/>
                    </a:lnTo>
                    <a:lnTo>
                      <a:pt x="60" y="619"/>
                    </a:lnTo>
                    <a:lnTo>
                      <a:pt x="70" y="604"/>
                    </a:lnTo>
                    <a:lnTo>
                      <a:pt x="81" y="588"/>
                    </a:lnTo>
                    <a:lnTo>
                      <a:pt x="95" y="569"/>
                    </a:lnTo>
                    <a:lnTo>
                      <a:pt x="111" y="549"/>
                    </a:lnTo>
                    <a:lnTo>
                      <a:pt x="123" y="534"/>
                    </a:lnTo>
                    <a:lnTo>
                      <a:pt x="137" y="519"/>
                    </a:lnTo>
                    <a:lnTo>
                      <a:pt x="151" y="502"/>
                    </a:lnTo>
                    <a:lnTo>
                      <a:pt x="167" y="483"/>
                    </a:lnTo>
                    <a:lnTo>
                      <a:pt x="183" y="467"/>
                    </a:lnTo>
                    <a:lnTo>
                      <a:pt x="199" y="449"/>
                    </a:lnTo>
                    <a:lnTo>
                      <a:pt x="215" y="435"/>
                    </a:lnTo>
                    <a:lnTo>
                      <a:pt x="235" y="415"/>
                    </a:lnTo>
                    <a:lnTo>
                      <a:pt x="252" y="399"/>
                    </a:lnTo>
                    <a:lnTo>
                      <a:pt x="269" y="385"/>
                    </a:lnTo>
                    <a:lnTo>
                      <a:pt x="288" y="369"/>
                    </a:lnTo>
                    <a:lnTo>
                      <a:pt x="302" y="357"/>
                    </a:lnTo>
                    <a:lnTo>
                      <a:pt x="321" y="343"/>
                    </a:lnTo>
                    <a:lnTo>
                      <a:pt x="339" y="329"/>
                    </a:lnTo>
                    <a:lnTo>
                      <a:pt x="361" y="314"/>
                    </a:lnTo>
                    <a:lnTo>
                      <a:pt x="379" y="302"/>
                    </a:lnTo>
                    <a:lnTo>
                      <a:pt x="400" y="286"/>
                    </a:lnTo>
                    <a:lnTo>
                      <a:pt x="425" y="271"/>
                    </a:lnTo>
                    <a:lnTo>
                      <a:pt x="449" y="256"/>
                    </a:lnTo>
                    <a:lnTo>
                      <a:pt x="473" y="241"/>
                    </a:lnTo>
                    <a:lnTo>
                      <a:pt x="498" y="227"/>
                    </a:lnTo>
                    <a:lnTo>
                      <a:pt x="524" y="214"/>
                    </a:lnTo>
                    <a:lnTo>
                      <a:pt x="552" y="200"/>
                    </a:lnTo>
                    <a:lnTo>
                      <a:pt x="575" y="191"/>
                    </a:lnTo>
                    <a:lnTo>
                      <a:pt x="597" y="179"/>
                    </a:lnTo>
                    <a:lnTo>
                      <a:pt x="623" y="170"/>
                    </a:lnTo>
                    <a:lnTo>
                      <a:pt x="641" y="163"/>
                    </a:lnTo>
                    <a:lnTo>
                      <a:pt x="563" y="0"/>
                    </a:lnTo>
                    <a:lnTo>
                      <a:pt x="1016" y="232"/>
                    </a:lnTo>
                    <a:lnTo>
                      <a:pt x="897" y="711"/>
                    </a:lnTo>
                    <a:lnTo>
                      <a:pt x="824" y="569"/>
                    </a:lnTo>
                    <a:lnTo>
                      <a:pt x="794" y="582"/>
                    </a:lnTo>
                    <a:lnTo>
                      <a:pt x="765" y="596"/>
                    </a:lnTo>
                    <a:lnTo>
                      <a:pt x="734" y="613"/>
                    </a:lnTo>
                    <a:lnTo>
                      <a:pt x="700" y="633"/>
                    </a:lnTo>
                    <a:lnTo>
                      <a:pt x="674" y="650"/>
                    </a:lnTo>
                    <a:lnTo>
                      <a:pt x="648" y="670"/>
                    </a:lnTo>
                    <a:lnTo>
                      <a:pt x="622" y="689"/>
                    </a:lnTo>
                    <a:lnTo>
                      <a:pt x="600" y="709"/>
                    </a:lnTo>
                    <a:lnTo>
                      <a:pt x="579" y="729"/>
                    </a:lnTo>
                    <a:lnTo>
                      <a:pt x="555" y="752"/>
                    </a:lnTo>
                    <a:lnTo>
                      <a:pt x="536" y="774"/>
                    </a:lnTo>
                    <a:lnTo>
                      <a:pt x="516" y="796"/>
                    </a:lnTo>
                    <a:lnTo>
                      <a:pt x="499" y="816"/>
                    </a:lnTo>
                    <a:lnTo>
                      <a:pt x="481" y="842"/>
                    </a:lnTo>
                    <a:lnTo>
                      <a:pt x="464" y="867"/>
                    </a:lnTo>
                    <a:lnTo>
                      <a:pt x="455" y="885"/>
                    </a:lnTo>
                    <a:lnTo>
                      <a:pt x="443" y="904"/>
                    </a:lnTo>
                    <a:lnTo>
                      <a:pt x="0" y="717"/>
                    </a:lnTo>
                    <a:close/>
                  </a:path>
                </a:pathLst>
              </a:custGeom>
              <a:solidFill>
                <a:srgbClr val="ddddd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0" name="Freeform 58"/>
              <p:cNvSpPr/>
              <p:nvPr/>
            </p:nvSpPr>
            <p:spPr>
              <a:xfrm>
                <a:off x="5029200" y="3070440"/>
                <a:ext cx="1239840" cy="147888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1478880"/>
                  <a:gd name="textAreaBottom" fmla="*/ 1479240 h 1478880"/>
                </a:gdLst>
                <a:ahLst/>
                <a:rect l="textAreaLeft" t="textAreaTop" r="textAreaRight" b="textAreaBottom"/>
                <a:pathLst>
                  <a:path w="895" h="1006">
                    <a:moveTo>
                      <a:pt x="895" y="416"/>
                    </a:moveTo>
                    <a:lnTo>
                      <a:pt x="667" y="332"/>
                    </a:lnTo>
                    <a:lnTo>
                      <a:pt x="657" y="352"/>
                    </a:lnTo>
                    <a:lnTo>
                      <a:pt x="652" y="371"/>
                    </a:lnTo>
                    <a:lnTo>
                      <a:pt x="646" y="390"/>
                    </a:lnTo>
                    <a:lnTo>
                      <a:pt x="641" y="411"/>
                    </a:lnTo>
                    <a:lnTo>
                      <a:pt x="634" y="438"/>
                    </a:lnTo>
                    <a:lnTo>
                      <a:pt x="630" y="460"/>
                    </a:lnTo>
                    <a:lnTo>
                      <a:pt x="626" y="485"/>
                    </a:lnTo>
                    <a:lnTo>
                      <a:pt x="624" y="511"/>
                    </a:lnTo>
                    <a:lnTo>
                      <a:pt x="621" y="539"/>
                    </a:lnTo>
                    <a:lnTo>
                      <a:pt x="621" y="589"/>
                    </a:lnTo>
                    <a:lnTo>
                      <a:pt x="622" y="615"/>
                    </a:lnTo>
                    <a:lnTo>
                      <a:pt x="624" y="639"/>
                    </a:lnTo>
                    <a:lnTo>
                      <a:pt x="628" y="664"/>
                    </a:lnTo>
                    <a:lnTo>
                      <a:pt x="633" y="688"/>
                    </a:lnTo>
                    <a:lnTo>
                      <a:pt x="638" y="711"/>
                    </a:lnTo>
                    <a:lnTo>
                      <a:pt x="644" y="739"/>
                    </a:lnTo>
                    <a:lnTo>
                      <a:pt x="654" y="765"/>
                    </a:lnTo>
                    <a:lnTo>
                      <a:pt x="227" y="1006"/>
                    </a:lnTo>
                    <a:lnTo>
                      <a:pt x="217" y="981"/>
                    </a:lnTo>
                    <a:lnTo>
                      <a:pt x="208" y="960"/>
                    </a:lnTo>
                    <a:lnTo>
                      <a:pt x="200" y="940"/>
                    </a:lnTo>
                    <a:lnTo>
                      <a:pt x="192" y="918"/>
                    </a:lnTo>
                    <a:lnTo>
                      <a:pt x="185" y="900"/>
                    </a:lnTo>
                    <a:lnTo>
                      <a:pt x="178" y="879"/>
                    </a:lnTo>
                    <a:lnTo>
                      <a:pt x="172" y="859"/>
                    </a:lnTo>
                    <a:lnTo>
                      <a:pt x="167" y="840"/>
                    </a:lnTo>
                    <a:lnTo>
                      <a:pt x="162" y="821"/>
                    </a:lnTo>
                    <a:lnTo>
                      <a:pt x="156" y="797"/>
                    </a:lnTo>
                    <a:lnTo>
                      <a:pt x="152" y="773"/>
                    </a:lnTo>
                    <a:lnTo>
                      <a:pt x="146" y="750"/>
                    </a:lnTo>
                    <a:lnTo>
                      <a:pt x="141" y="728"/>
                    </a:lnTo>
                    <a:lnTo>
                      <a:pt x="139" y="702"/>
                    </a:lnTo>
                    <a:lnTo>
                      <a:pt x="136" y="678"/>
                    </a:lnTo>
                    <a:lnTo>
                      <a:pt x="133" y="650"/>
                    </a:lnTo>
                    <a:lnTo>
                      <a:pt x="131" y="623"/>
                    </a:lnTo>
                    <a:lnTo>
                      <a:pt x="131" y="596"/>
                    </a:lnTo>
                    <a:lnTo>
                      <a:pt x="131" y="568"/>
                    </a:lnTo>
                    <a:lnTo>
                      <a:pt x="131" y="533"/>
                    </a:lnTo>
                    <a:lnTo>
                      <a:pt x="132" y="502"/>
                    </a:lnTo>
                    <a:lnTo>
                      <a:pt x="133" y="481"/>
                    </a:lnTo>
                    <a:lnTo>
                      <a:pt x="136" y="455"/>
                    </a:lnTo>
                    <a:lnTo>
                      <a:pt x="139" y="431"/>
                    </a:lnTo>
                    <a:lnTo>
                      <a:pt x="142" y="402"/>
                    </a:lnTo>
                    <a:lnTo>
                      <a:pt x="148" y="376"/>
                    </a:lnTo>
                    <a:lnTo>
                      <a:pt x="153" y="353"/>
                    </a:lnTo>
                    <a:lnTo>
                      <a:pt x="159" y="323"/>
                    </a:lnTo>
                    <a:lnTo>
                      <a:pt x="166" y="300"/>
                    </a:lnTo>
                    <a:lnTo>
                      <a:pt x="172" y="272"/>
                    </a:lnTo>
                    <a:lnTo>
                      <a:pt x="180" y="248"/>
                    </a:lnTo>
                    <a:lnTo>
                      <a:pt x="189" y="223"/>
                    </a:lnTo>
                    <a:lnTo>
                      <a:pt x="199" y="197"/>
                    </a:lnTo>
                    <a:lnTo>
                      <a:pt x="212" y="166"/>
                    </a:lnTo>
                    <a:lnTo>
                      <a:pt x="0" y="87"/>
                    </a:lnTo>
                    <a:lnTo>
                      <a:pt x="557" y="0"/>
                    </a:lnTo>
                    <a:lnTo>
                      <a:pt x="895" y="416"/>
                    </a:lnTo>
                    <a:close/>
                  </a:path>
                </a:pathLst>
              </a:custGeom>
              <a:solidFill>
                <a:srgbClr val="ffcc99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1" name="Freeform 59"/>
              <p:cNvSpPr/>
              <p:nvPr/>
            </p:nvSpPr>
            <p:spPr>
              <a:xfrm>
                <a:off x="5085720" y="4138200"/>
                <a:ext cx="1405800" cy="1268640"/>
              </a:xfrm>
              <a:custGeom>
                <a:avLst/>
                <a:gdLst>
                  <a:gd name="textAreaLeft" fmla="*/ 0 w 1405800"/>
                  <a:gd name="textAreaRight" fmla="*/ 1406160 w 1405800"/>
                  <a:gd name="textAreaTop" fmla="*/ 0 h 1268640"/>
                  <a:gd name="textAreaBottom" fmla="*/ 1268640 h 1268640"/>
                </a:gdLst>
                <a:ahLst/>
                <a:rect l="textAreaLeft" t="textAreaTop" r="textAreaRight" b="textAreaBottom"/>
                <a:pathLst>
                  <a:path w="1015" h="862">
                    <a:moveTo>
                      <a:pt x="807" y="862"/>
                    </a:moveTo>
                    <a:lnTo>
                      <a:pt x="786" y="853"/>
                    </a:lnTo>
                    <a:lnTo>
                      <a:pt x="769" y="845"/>
                    </a:lnTo>
                    <a:lnTo>
                      <a:pt x="751" y="837"/>
                    </a:lnTo>
                    <a:lnTo>
                      <a:pt x="734" y="829"/>
                    </a:lnTo>
                    <a:lnTo>
                      <a:pt x="716" y="819"/>
                    </a:lnTo>
                    <a:lnTo>
                      <a:pt x="697" y="810"/>
                    </a:lnTo>
                    <a:lnTo>
                      <a:pt x="680" y="799"/>
                    </a:lnTo>
                    <a:lnTo>
                      <a:pt x="662" y="790"/>
                    </a:lnTo>
                    <a:lnTo>
                      <a:pt x="641" y="777"/>
                    </a:lnTo>
                    <a:lnTo>
                      <a:pt x="619" y="765"/>
                    </a:lnTo>
                    <a:lnTo>
                      <a:pt x="602" y="753"/>
                    </a:lnTo>
                    <a:lnTo>
                      <a:pt x="585" y="740"/>
                    </a:lnTo>
                    <a:lnTo>
                      <a:pt x="566" y="727"/>
                    </a:lnTo>
                    <a:lnTo>
                      <a:pt x="545" y="713"/>
                    </a:lnTo>
                    <a:lnTo>
                      <a:pt x="527" y="699"/>
                    </a:lnTo>
                    <a:lnTo>
                      <a:pt x="507" y="684"/>
                    </a:lnTo>
                    <a:lnTo>
                      <a:pt x="491" y="672"/>
                    </a:lnTo>
                    <a:lnTo>
                      <a:pt x="469" y="653"/>
                    </a:lnTo>
                    <a:lnTo>
                      <a:pt x="451" y="638"/>
                    </a:lnTo>
                    <a:lnTo>
                      <a:pt x="435" y="623"/>
                    </a:lnTo>
                    <a:lnTo>
                      <a:pt x="417" y="605"/>
                    </a:lnTo>
                    <a:lnTo>
                      <a:pt x="404" y="592"/>
                    </a:lnTo>
                    <a:lnTo>
                      <a:pt x="388" y="576"/>
                    </a:lnTo>
                    <a:lnTo>
                      <a:pt x="373" y="560"/>
                    </a:lnTo>
                    <a:lnTo>
                      <a:pt x="356" y="540"/>
                    </a:lnTo>
                    <a:lnTo>
                      <a:pt x="340" y="524"/>
                    </a:lnTo>
                    <a:lnTo>
                      <a:pt x="324" y="505"/>
                    </a:lnTo>
                    <a:lnTo>
                      <a:pt x="306" y="483"/>
                    </a:lnTo>
                    <a:lnTo>
                      <a:pt x="291" y="462"/>
                    </a:lnTo>
                    <a:lnTo>
                      <a:pt x="274" y="440"/>
                    </a:lnTo>
                    <a:lnTo>
                      <a:pt x="258" y="418"/>
                    </a:lnTo>
                    <a:lnTo>
                      <a:pt x="244" y="395"/>
                    </a:lnTo>
                    <a:lnTo>
                      <a:pt x="228" y="370"/>
                    </a:lnTo>
                    <a:lnTo>
                      <a:pt x="218" y="349"/>
                    </a:lnTo>
                    <a:lnTo>
                      <a:pt x="204" y="330"/>
                    </a:lnTo>
                    <a:lnTo>
                      <a:pt x="194" y="307"/>
                    </a:lnTo>
                    <a:lnTo>
                      <a:pt x="0" y="389"/>
                    </a:lnTo>
                    <a:lnTo>
                      <a:pt x="319" y="0"/>
                    </a:lnTo>
                    <a:lnTo>
                      <a:pt x="859" y="42"/>
                    </a:lnTo>
                    <a:lnTo>
                      <a:pt x="641" y="130"/>
                    </a:lnTo>
                    <a:lnTo>
                      <a:pt x="656" y="154"/>
                    </a:lnTo>
                    <a:lnTo>
                      <a:pt x="671" y="180"/>
                    </a:lnTo>
                    <a:lnTo>
                      <a:pt x="691" y="207"/>
                    </a:lnTo>
                    <a:lnTo>
                      <a:pt x="713" y="238"/>
                    </a:lnTo>
                    <a:lnTo>
                      <a:pt x="733" y="261"/>
                    </a:lnTo>
                    <a:lnTo>
                      <a:pt x="755" y="284"/>
                    </a:lnTo>
                    <a:lnTo>
                      <a:pt x="776" y="307"/>
                    </a:lnTo>
                    <a:lnTo>
                      <a:pt x="798" y="327"/>
                    </a:lnTo>
                    <a:lnTo>
                      <a:pt x="821" y="346"/>
                    </a:lnTo>
                    <a:lnTo>
                      <a:pt x="846" y="367"/>
                    </a:lnTo>
                    <a:lnTo>
                      <a:pt x="871" y="384"/>
                    </a:lnTo>
                    <a:lnTo>
                      <a:pt x="894" y="402"/>
                    </a:lnTo>
                    <a:lnTo>
                      <a:pt x="918" y="417"/>
                    </a:lnTo>
                    <a:lnTo>
                      <a:pt x="946" y="433"/>
                    </a:lnTo>
                    <a:lnTo>
                      <a:pt x="975" y="448"/>
                    </a:lnTo>
                    <a:lnTo>
                      <a:pt x="996" y="456"/>
                    </a:lnTo>
                    <a:lnTo>
                      <a:pt x="1015" y="467"/>
                    </a:lnTo>
                    <a:lnTo>
                      <a:pt x="807" y="862"/>
                    </a:lnTo>
                    <a:close/>
                  </a:path>
                </a:pathLst>
              </a:custGeom>
              <a:solidFill>
                <a:srgbClr val="ffff99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2" name="Freeform 60"/>
              <p:cNvSpPr/>
              <p:nvPr/>
            </p:nvSpPr>
            <p:spPr>
              <a:xfrm>
                <a:off x="6145560" y="4583520"/>
                <a:ext cx="1527120" cy="1156680"/>
              </a:xfrm>
              <a:custGeom>
                <a:avLst/>
                <a:gdLst>
                  <a:gd name="textAreaLeft" fmla="*/ 0 w 1527120"/>
                  <a:gd name="textAreaRight" fmla="*/ 1527480 w 1527120"/>
                  <a:gd name="textAreaTop" fmla="*/ 0 h 1156680"/>
                  <a:gd name="textAreaBottom" fmla="*/ 1157040 h 1156680"/>
                </a:gdLst>
                <a:ahLst/>
                <a:rect l="textAreaLeft" t="textAreaTop" r="textAreaRight" b="textAreaBottom"/>
                <a:pathLst>
                  <a:path w="1103" h="787">
                    <a:moveTo>
                      <a:pt x="442" y="0"/>
                    </a:moveTo>
                    <a:lnTo>
                      <a:pt x="350" y="203"/>
                    </a:lnTo>
                    <a:lnTo>
                      <a:pt x="372" y="211"/>
                    </a:lnTo>
                    <a:lnTo>
                      <a:pt x="391" y="216"/>
                    </a:lnTo>
                    <a:lnTo>
                      <a:pt x="413" y="222"/>
                    </a:lnTo>
                    <a:lnTo>
                      <a:pt x="438" y="228"/>
                    </a:lnTo>
                    <a:lnTo>
                      <a:pt x="467" y="232"/>
                    </a:lnTo>
                    <a:lnTo>
                      <a:pt x="493" y="236"/>
                    </a:lnTo>
                    <a:lnTo>
                      <a:pt x="519" y="239"/>
                    </a:lnTo>
                    <a:lnTo>
                      <a:pt x="549" y="243"/>
                    </a:lnTo>
                    <a:lnTo>
                      <a:pt x="580" y="245"/>
                    </a:lnTo>
                    <a:lnTo>
                      <a:pt x="636" y="245"/>
                    </a:lnTo>
                    <a:lnTo>
                      <a:pt x="666" y="244"/>
                    </a:lnTo>
                    <a:lnTo>
                      <a:pt x="692" y="242"/>
                    </a:lnTo>
                    <a:lnTo>
                      <a:pt x="720" y="238"/>
                    </a:lnTo>
                    <a:lnTo>
                      <a:pt x="749" y="233"/>
                    </a:lnTo>
                    <a:lnTo>
                      <a:pt x="773" y="230"/>
                    </a:lnTo>
                    <a:lnTo>
                      <a:pt x="805" y="223"/>
                    </a:lnTo>
                    <a:lnTo>
                      <a:pt x="835" y="215"/>
                    </a:lnTo>
                    <a:lnTo>
                      <a:pt x="1103" y="595"/>
                    </a:lnTo>
                    <a:lnTo>
                      <a:pt x="1077" y="604"/>
                    </a:lnTo>
                    <a:lnTo>
                      <a:pt x="1052" y="613"/>
                    </a:lnTo>
                    <a:lnTo>
                      <a:pt x="1030" y="620"/>
                    </a:lnTo>
                    <a:lnTo>
                      <a:pt x="1007" y="627"/>
                    </a:lnTo>
                    <a:lnTo>
                      <a:pt x="985" y="632"/>
                    </a:lnTo>
                    <a:lnTo>
                      <a:pt x="961" y="639"/>
                    </a:lnTo>
                    <a:lnTo>
                      <a:pt x="940" y="644"/>
                    </a:lnTo>
                    <a:lnTo>
                      <a:pt x="918" y="649"/>
                    </a:lnTo>
                    <a:lnTo>
                      <a:pt x="896" y="653"/>
                    </a:lnTo>
                    <a:lnTo>
                      <a:pt x="871" y="659"/>
                    </a:lnTo>
                    <a:lnTo>
                      <a:pt x="842" y="663"/>
                    </a:lnTo>
                    <a:lnTo>
                      <a:pt x="818" y="667"/>
                    </a:lnTo>
                    <a:lnTo>
                      <a:pt x="792" y="672"/>
                    </a:lnTo>
                    <a:lnTo>
                      <a:pt x="764" y="675"/>
                    </a:lnTo>
                    <a:lnTo>
                      <a:pt x="736" y="678"/>
                    </a:lnTo>
                    <a:lnTo>
                      <a:pt x="704" y="679"/>
                    </a:lnTo>
                    <a:lnTo>
                      <a:pt x="674" y="681"/>
                    </a:lnTo>
                    <a:lnTo>
                      <a:pt x="646" y="681"/>
                    </a:lnTo>
                    <a:lnTo>
                      <a:pt x="614" y="681"/>
                    </a:lnTo>
                    <a:lnTo>
                      <a:pt x="575" y="681"/>
                    </a:lnTo>
                    <a:lnTo>
                      <a:pt x="540" y="680"/>
                    </a:lnTo>
                    <a:lnTo>
                      <a:pt x="515" y="679"/>
                    </a:lnTo>
                    <a:lnTo>
                      <a:pt x="488" y="678"/>
                    </a:lnTo>
                    <a:lnTo>
                      <a:pt x="459" y="675"/>
                    </a:lnTo>
                    <a:lnTo>
                      <a:pt x="426" y="671"/>
                    </a:lnTo>
                    <a:lnTo>
                      <a:pt x="399" y="666"/>
                    </a:lnTo>
                    <a:lnTo>
                      <a:pt x="372" y="663"/>
                    </a:lnTo>
                    <a:lnTo>
                      <a:pt x="338" y="656"/>
                    </a:lnTo>
                    <a:lnTo>
                      <a:pt x="313" y="650"/>
                    </a:lnTo>
                    <a:lnTo>
                      <a:pt x="282" y="644"/>
                    </a:lnTo>
                    <a:lnTo>
                      <a:pt x="254" y="637"/>
                    </a:lnTo>
                    <a:lnTo>
                      <a:pt x="227" y="630"/>
                    </a:lnTo>
                    <a:lnTo>
                      <a:pt x="198" y="621"/>
                    </a:lnTo>
                    <a:lnTo>
                      <a:pt x="163" y="609"/>
                    </a:lnTo>
                    <a:lnTo>
                      <a:pt x="80" y="787"/>
                    </a:lnTo>
                    <a:lnTo>
                      <a:pt x="0" y="282"/>
                    </a:lnTo>
                    <a:lnTo>
                      <a:pt x="442" y="0"/>
                    </a:lnTo>
                    <a:close/>
                  </a:path>
                </a:pathLst>
              </a:custGeom>
              <a:solidFill>
                <a:srgbClr val="cc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3" name="Freeform 61"/>
              <p:cNvSpPr/>
              <p:nvPr/>
            </p:nvSpPr>
            <p:spPr>
              <a:xfrm>
                <a:off x="7246080" y="4356360"/>
                <a:ext cx="1328400" cy="1257120"/>
              </a:xfrm>
              <a:custGeom>
                <a:avLst/>
                <a:gdLst>
                  <a:gd name="textAreaLeft" fmla="*/ 0 w 1328400"/>
                  <a:gd name="textAreaRight" fmla="*/ 1328760 w 1328400"/>
                  <a:gd name="textAreaTop" fmla="*/ 0 h 1257120"/>
                  <a:gd name="textAreaBottom" fmla="*/ 1257480 h 1257120"/>
                </a:gdLst>
                <a:ahLst/>
                <a:rect l="textAreaLeft" t="textAreaTop" r="textAreaRight" b="textAreaBottom"/>
                <a:pathLst>
                  <a:path w="959" h="855">
                    <a:moveTo>
                      <a:pt x="959" y="187"/>
                    </a:moveTo>
                    <a:lnTo>
                      <a:pt x="947" y="206"/>
                    </a:lnTo>
                    <a:lnTo>
                      <a:pt x="939" y="221"/>
                    </a:lnTo>
                    <a:lnTo>
                      <a:pt x="929" y="237"/>
                    </a:lnTo>
                    <a:lnTo>
                      <a:pt x="921" y="253"/>
                    </a:lnTo>
                    <a:lnTo>
                      <a:pt x="911" y="269"/>
                    </a:lnTo>
                    <a:lnTo>
                      <a:pt x="899" y="285"/>
                    </a:lnTo>
                    <a:lnTo>
                      <a:pt x="888" y="300"/>
                    </a:lnTo>
                    <a:lnTo>
                      <a:pt x="877" y="317"/>
                    </a:lnTo>
                    <a:lnTo>
                      <a:pt x="862" y="335"/>
                    </a:lnTo>
                    <a:lnTo>
                      <a:pt x="848" y="354"/>
                    </a:lnTo>
                    <a:lnTo>
                      <a:pt x="836" y="369"/>
                    </a:lnTo>
                    <a:lnTo>
                      <a:pt x="822" y="384"/>
                    </a:lnTo>
                    <a:lnTo>
                      <a:pt x="806" y="403"/>
                    </a:lnTo>
                    <a:lnTo>
                      <a:pt x="791" y="421"/>
                    </a:lnTo>
                    <a:lnTo>
                      <a:pt x="775" y="437"/>
                    </a:lnTo>
                    <a:lnTo>
                      <a:pt x="758" y="455"/>
                    </a:lnTo>
                    <a:lnTo>
                      <a:pt x="744" y="469"/>
                    </a:lnTo>
                    <a:lnTo>
                      <a:pt x="723" y="489"/>
                    </a:lnTo>
                    <a:lnTo>
                      <a:pt x="706" y="505"/>
                    </a:lnTo>
                    <a:lnTo>
                      <a:pt x="689" y="519"/>
                    </a:lnTo>
                    <a:lnTo>
                      <a:pt x="669" y="535"/>
                    </a:lnTo>
                    <a:lnTo>
                      <a:pt x="655" y="547"/>
                    </a:lnTo>
                    <a:lnTo>
                      <a:pt x="637" y="561"/>
                    </a:lnTo>
                    <a:lnTo>
                      <a:pt x="619" y="575"/>
                    </a:lnTo>
                    <a:lnTo>
                      <a:pt x="598" y="590"/>
                    </a:lnTo>
                    <a:lnTo>
                      <a:pt x="579" y="603"/>
                    </a:lnTo>
                    <a:lnTo>
                      <a:pt x="559" y="617"/>
                    </a:lnTo>
                    <a:lnTo>
                      <a:pt x="532" y="633"/>
                    </a:lnTo>
                    <a:lnTo>
                      <a:pt x="510" y="647"/>
                    </a:lnTo>
                    <a:lnTo>
                      <a:pt x="486" y="662"/>
                    </a:lnTo>
                    <a:lnTo>
                      <a:pt x="461" y="677"/>
                    </a:lnTo>
                    <a:lnTo>
                      <a:pt x="435" y="690"/>
                    </a:lnTo>
                    <a:lnTo>
                      <a:pt x="568" y="855"/>
                    </a:lnTo>
                    <a:lnTo>
                      <a:pt x="41" y="643"/>
                    </a:lnTo>
                    <a:lnTo>
                      <a:pt x="0" y="226"/>
                    </a:lnTo>
                    <a:lnTo>
                      <a:pt x="111" y="344"/>
                    </a:lnTo>
                    <a:lnTo>
                      <a:pt x="136" y="334"/>
                    </a:lnTo>
                    <a:lnTo>
                      <a:pt x="161" y="322"/>
                    </a:lnTo>
                    <a:lnTo>
                      <a:pt x="193" y="307"/>
                    </a:lnTo>
                    <a:lnTo>
                      <a:pt x="225" y="291"/>
                    </a:lnTo>
                    <a:lnTo>
                      <a:pt x="257" y="271"/>
                    </a:lnTo>
                    <a:lnTo>
                      <a:pt x="285" y="254"/>
                    </a:lnTo>
                    <a:lnTo>
                      <a:pt x="311" y="234"/>
                    </a:lnTo>
                    <a:lnTo>
                      <a:pt x="337" y="214"/>
                    </a:lnTo>
                    <a:lnTo>
                      <a:pt x="358" y="196"/>
                    </a:lnTo>
                    <a:lnTo>
                      <a:pt x="380" y="175"/>
                    </a:lnTo>
                    <a:lnTo>
                      <a:pt x="403" y="151"/>
                    </a:lnTo>
                    <a:lnTo>
                      <a:pt x="423" y="130"/>
                    </a:lnTo>
                    <a:lnTo>
                      <a:pt x="443" y="108"/>
                    </a:lnTo>
                    <a:lnTo>
                      <a:pt x="459" y="89"/>
                    </a:lnTo>
                    <a:lnTo>
                      <a:pt x="478" y="62"/>
                    </a:lnTo>
                    <a:lnTo>
                      <a:pt x="495" y="37"/>
                    </a:lnTo>
                    <a:lnTo>
                      <a:pt x="504" y="19"/>
                    </a:lnTo>
                    <a:lnTo>
                      <a:pt x="514" y="0"/>
                    </a:lnTo>
                    <a:lnTo>
                      <a:pt x="959" y="187"/>
                    </a:lnTo>
                    <a:close/>
                  </a:path>
                </a:pathLst>
              </a:custGeom>
              <a:solidFill>
                <a:srgbClr val="ccff99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4" name="Freeform 62"/>
              <p:cNvSpPr/>
              <p:nvPr/>
            </p:nvSpPr>
            <p:spPr>
              <a:xfrm>
                <a:off x="7691760" y="3232800"/>
                <a:ext cx="1223280" cy="1461960"/>
              </a:xfrm>
              <a:custGeom>
                <a:avLst/>
                <a:gdLst>
                  <a:gd name="textAreaLeft" fmla="*/ 0 w 1223280"/>
                  <a:gd name="textAreaRight" fmla="*/ 1223640 w 1223280"/>
                  <a:gd name="textAreaTop" fmla="*/ 0 h 1461960"/>
                  <a:gd name="textAreaBottom" fmla="*/ 1461960 h 1461960"/>
                </a:gdLst>
                <a:ahLst/>
                <a:rect l="textAreaLeft" t="textAreaTop" r="textAreaRight" b="textAreaBottom"/>
                <a:pathLst>
                  <a:path w="884" h="994">
                    <a:moveTo>
                      <a:pt x="0" y="632"/>
                    </a:moveTo>
                    <a:lnTo>
                      <a:pt x="221" y="706"/>
                    </a:lnTo>
                    <a:lnTo>
                      <a:pt x="232" y="682"/>
                    </a:lnTo>
                    <a:lnTo>
                      <a:pt x="241" y="657"/>
                    </a:lnTo>
                    <a:lnTo>
                      <a:pt x="248" y="635"/>
                    </a:lnTo>
                    <a:lnTo>
                      <a:pt x="254" y="615"/>
                    </a:lnTo>
                    <a:lnTo>
                      <a:pt x="261" y="593"/>
                    </a:lnTo>
                    <a:lnTo>
                      <a:pt x="266" y="568"/>
                    </a:lnTo>
                    <a:lnTo>
                      <a:pt x="270" y="544"/>
                    </a:lnTo>
                    <a:lnTo>
                      <a:pt x="274" y="521"/>
                    </a:lnTo>
                    <a:lnTo>
                      <a:pt x="278" y="494"/>
                    </a:lnTo>
                    <a:lnTo>
                      <a:pt x="279" y="466"/>
                    </a:lnTo>
                    <a:lnTo>
                      <a:pt x="279" y="416"/>
                    </a:lnTo>
                    <a:lnTo>
                      <a:pt x="278" y="390"/>
                    </a:lnTo>
                    <a:lnTo>
                      <a:pt x="277" y="366"/>
                    </a:lnTo>
                    <a:lnTo>
                      <a:pt x="273" y="342"/>
                    </a:lnTo>
                    <a:lnTo>
                      <a:pt x="268" y="316"/>
                    </a:lnTo>
                    <a:lnTo>
                      <a:pt x="262" y="294"/>
                    </a:lnTo>
                    <a:lnTo>
                      <a:pt x="256" y="266"/>
                    </a:lnTo>
                    <a:lnTo>
                      <a:pt x="247" y="240"/>
                    </a:lnTo>
                    <a:lnTo>
                      <a:pt x="673" y="0"/>
                    </a:lnTo>
                    <a:lnTo>
                      <a:pt x="683" y="23"/>
                    </a:lnTo>
                    <a:lnTo>
                      <a:pt x="693" y="45"/>
                    </a:lnTo>
                    <a:lnTo>
                      <a:pt x="700" y="65"/>
                    </a:lnTo>
                    <a:lnTo>
                      <a:pt x="708" y="86"/>
                    </a:lnTo>
                    <a:lnTo>
                      <a:pt x="715" y="106"/>
                    </a:lnTo>
                    <a:lnTo>
                      <a:pt x="723" y="127"/>
                    </a:lnTo>
                    <a:lnTo>
                      <a:pt x="728" y="145"/>
                    </a:lnTo>
                    <a:lnTo>
                      <a:pt x="733" y="165"/>
                    </a:lnTo>
                    <a:lnTo>
                      <a:pt x="738" y="185"/>
                    </a:lnTo>
                    <a:lnTo>
                      <a:pt x="745" y="207"/>
                    </a:lnTo>
                    <a:lnTo>
                      <a:pt x="749" y="233"/>
                    </a:lnTo>
                    <a:lnTo>
                      <a:pt x="754" y="255"/>
                    </a:lnTo>
                    <a:lnTo>
                      <a:pt x="759" y="278"/>
                    </a:lnTo>
                    <a:lnTo>
                      <a:pt x="763" y="302"/>
                    </a:lnTo>
                    <a:lnTo>
                      <a:pt x="764" y="328"/>
                    </a:lnTo>
                    <a:lnTo>
                      <a:pt x="767" y="356"/>
                    </a:lnTo>
                    <a:lnTo>
                      <a:pt x="770" y="383"/>
                    </a:lnTo>
                    <a:lnTo>
                      <a:pt x="770" y="408"/>
                    </a:lnTo>
                    <a:lnTo>
                      <a:pt x="770" y="436"/>
                    </a:lnTo>
                    <a:lnTo>
                      <a:pt x="770" y="471"/>
                    </a:lnTo>
                    <a:lnTo>
                      <a:pt x="768" y="502"/>
                    </a:lnTo>
                    <a:lnTo>
                      <a:pt x="767" y="525"/>
                    </a:lnTo>
                    <a:lnTo>
                      <a:pt x="764" y="549"/>
                    </a:lnTo>
                    <a:lnTo>
                      <a:pt x="763" y="575"/>
                    </a:lnTo>
                    <a:lnTo>
                      <a:pt x="758" y="604"/>
                    </a:lnTo>
                    <a:lnTo>
                      <a:pt x="753" y="628"/>
                    </a:lnTo>
                    <a:lnTo>
                      <a:pt x="747" y="653"/>
                    </a:lnTo>
                    <a:lnTo>
                      <a:pt x="741" y="683"/>
                    </a:lnTo>
                    <a:lnTo>
                      <a:pt x="734" y="705"/>
                    </a:lnTo>
                    <a:lnTo>
                      <a:pt x="728" y="733"/>
                    </a:lnTo>
                    <a:lnTo>
                      <a:pt x="720" y="757"/>
                    </a:lnTo>
                    <a:lnTo>
                      <a:pt x="711" y="782"/>
                    </a:lnTo>
                    <a:lnTo>
                      <a:pt x="702" y="807"/>
                    </a:lnTo>
                    <a:lnTo>
                      <a:pt x="690" y="839"/>
                    </a:lnTo>
                    <a:lnTo>
                      <a:pt x="677" y="870"/>
                    </a:lnTo>
                    <a:lnTo>
                      <a:pt x="884" y="946"/>
                    </a:lnTo>
                    <a:lnTo>
                      <a:pt x="363" y="994"/>
                    </a:lnTo>
                    <a:lnTo>
                      <a:pt x="0" y="632"/>
                    </a:lnTo>
                    <a:close/>
                  </a:path>
                </a:pathLst>
              </a:custGeom>
              <a:solidFill>
                <a:srgbClr val="b2b2b2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  <p:sp>
            <p:nvSpPr>
              <p:cNvPr id="115" name="Freeform 63"/>
              <p:cNvSpPr/>
              <p:nvPr/>
            </p:nvSpPr>
            <p:spPr>
              <a:xfrm>
                <a:off x="7467120" y="2385000"/>
                <a:ext cx="1433160" cy="1290960"/>
              </a:xfrm>
              <a:custGeom>
                <a:avLst/>
                <a:gdLst>
                  <a:gd name="textAreaLeft" fmla="*/ 0 w 1433160"/>
                  <a:gd name="textAreaRight" fmla="*/ 1433520 w 1433160"/>
                  <a:gd name="textAreaTop" fmla="*/ 0 h 1290960"/>
                  <a:gd name="textAreaBottom" fmla="*/ 1291320 h 1290960"/>
                </a:gdLst>
                <a:ahLst/>
                <a:rect l="textAreaLeft" t="textAreaTop" r="textAreaRight" b="textAreaBottom"/>
                <a:pathLst>
                  <a:path w="1034" h="878">
                    <a:moveTo>
                      <a:pt x="209" y="0"/>
                    </a:moveTo>
                    <a:lnTo>
                      <a:pt x="230" y="10"/>
                    </a:lnTo>
                    <a:lnTo>
                      <a:pt x="247" y="18"/>
                    </a:lnTo>
                    <a:lnTo>
                      <a:pt x="266" y="26"/>
                    </a:lnTo>
                    <a:lnTo>
                      <a:pt x="283" y="34"/>
                    </a:lnTo>
                    <a:lnTo>
                      <a:pt x="301" y="43"/>
                    </a:lnTo>
                    <a:lnTo>
                      <a:pt x="318" y="54"/>
                    </a:lnTo>
                    <a:lnTo>
                      <a:pt x="335" y="63"/>
                    </a:lnTo>
                    <a:lnTo>
                      <a:pt x="353" y="72"/>
                    </a:lnTo>
                    <a:lnTo>
                      <a:pt x="374" y="85"/>
                    </a:lnTo>
                    <a:lnTo>
                      <a:pt x="396" y="99"/>
                    </a:lnTo>
                    <a:lnTo>
                      <a:pt x="413" y="110"/>
                    </a:lnTo>
                    <a:lnTo>
                      <a:pt x="430" y="122"/>
                    </a:lnTo>
                    <a:lnTo>
                      <a:pt x="451" y="135"/>
                    </a:lnTo>
                    <a:lnTo>
                      <a:pt x="472" y="149"/>
                    </a:lnTo>
                    <a:lnTo>
                      <a:pt x="490" y="163"/>
                    </a:lnTo>
                    <a:lnTo>
                      <a:pt x="508" y="178"/>
                    </a:lnTo>
                    <a:lnTo>
                      <a:pt x="525" y="192"/>
                    </a:lnTo>
                    <a:lnTo>
                      <a:pt x="546" y="210"/>
                    </a:lnTo>
                    <a:lnTo>
                      <a:pt x="564" y="225"/>
                    </a:lnTo>
                    <a:lnTo>
                      <a:pt x="580" y="240"/>
                    </a:lnTo>
                    <a:lnTo>
                      <a:pt x="598" y="257"/>
                    </a:lnTo>
                    <a:lnTo>
                      <a:pt x="612" y="270"/>
                    </a:lnTo>
                    <a:lnTo>
                      <a:pt x="628" y="286"/>
                    </a:lnTo>
                    <a:lnTo>
                      <a:pt x="644" y="303"/>
                    </a:lnTo>
                    <a:lnTo>
                      <a:pt x="661" y="322"/>
                    </a:lnTo>
                    <a:lnTo>
                      <a:pt x="675" y="339"/>
                    </a:lnTo>
                    <a:lnTo>
                      <a:pt x="691" y="357"/>
                    </a:lnTo>
                    <a:lnTo>
                      <a:pt x="709" y="379"/>
                    </a:lnTo>
                    <a:lnTo>
                      <a:pt x="725" y="400"/>
                    </a:lnTo>
                    <a:lnTo>
                      <a:pt x="741" y="422"/>
                    </a:lnTo>
                    <a:lnTo>
                      <a:pt x="757" y="445"/>
                    </a:lnTo>
                    <a:lnTo>
                      <a:pt x="771" y="468"/>
                    </a:lnTo>
                    <a:lnTo>
                      <a:pt x="787" y="492"/>
                    </a:lnTo>
                    <a:lnTo>
                      <a:pt x="799" y="513"/>
                    </a:lnTo>
                    <a:lnTo>
                      <a:pt x="811" y="533"/>
                    </a:lnTo>
                    <a:lnTo>
                      <a:pt x="821" y="556"/>
                    </a:lnTo>
                    <a:lnTo>
                      <a:pt x="829" y="572"/>
                    </a:lnTo>
                    <a:lnTo>
                      <a:pt x="1034" y="500"/>
                    </a:lnTo>
                    <a:lnTo>
                      <a:pt x="714" y="878"/>
                    </a:lnTo>
                    <a:lnTo>
                      <a:pt x="150" y="817"/>
                    </a:lnTo>
                    <a:lnTo>
                      <a:pt x="374" y="735"/>
                    </a:lnTo>
                    <a:lnTo>
                      <a:pt x="359" y="709"/>
                    </a:lnTo>
                    <a:lnTo>
                      <a:pt x="344" y="683"/>
                    </a:lnTo>
                    <a:lnTo>
                      <a:pt x="324" y="655"/>
                    </a:lnTo>
                    <a:lnTo>
                      <a:pt x="302" y="626"/>
                    </a:lnTo>
                    <a:lnTo>
                      <a:pt x="283" y="602"/>
                    </a:lnTo>
                    <a:lnTo>
                      <a:pt x="262" y="578"/>
                    </a:lnTo>
                    <a:lnTo>
                      <a:pt x="239" y="555"/>
                    </a:lnTo>
                    <a:lnTo>
                      <a:pt x="217" y="535"/>
                    </a:lnTo>
                    <a:lnTo>
                      <a:pt x="195" y="517"/>
                    </a:lnTo>
                    <a:lnTo>
                      <a:pt x="169" y="496"/>
                    </a:lnTo>
                    <a:lnTo>
                      <a:pt x="144" y="478"/>
                    </a:lnTo>
                    <a:lnTo>
                      <a:pt x="121" y="461"/>
                    </a:lnTo>
                    <a:lnTo>
                      <a:pt x="97" y="446"/>
                    </a:lnTo>
                    <a:lnTo>
                      <a:pt x="69" y="429"/>
                    </a:lnTo>
                    <a:lnTo>
                      <a:pt x="40" y="414"/>
                    </a:lnTo>
                    <a:lnTo>
                      <a:pt x="20" y="406"/>
                    </a:lnTo>
                    <a:lnTo>
                      <a:pt x="0" y="396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cccc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ccecff"/>
                  </a:solidFill>
                  <a:latin typeface="Garamond"/>
                </a:endParaRPr>
              </a:p>
            </p:txBody>
          </p:sp>
        </p:grpSp>
      </p:grpSp>
    </p:spTree>
  </p:cSld>
  <p:transition spd="slow" advTm="60000"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basic process step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2590920" y="1676520"/>
            <a:ext cx="4572000" cy="5331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the contex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1" name="Rectangle 30"/>
          <p:cNvSpPr/>
          <p:nvPr/>
        </p:nvSpPr>
        <p:spPr>
          <a:xfrm>
            <a:off x="1905120" y="2514600"/>
            <a:ext cx="4572000" cy="5335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2590920" y="3352680"/>
            <a:ext cx="4572000" cy="53352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ys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3" name="Rectangle 32"/>
          <p:cNvSpPr/>
          <p:nvPr/>
        </p:nvSpPr>
        <p:spPr>
          <a:xfrm>
            <a:off x="1905120" y="4191120"/>
            <a:ext cx="4572000" cy="5331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4" name="Rectangle 33"/>
          <p:cNvSpPr/>
          <p:nvPr/>
        </p:nvSpPr>
        <p:spPr>
          <a:xfrm>
            <a:off x="2590920" y="5029200"/>
            <a:ext cx="4572000" cy="5335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500"/>
                            </p:stCondLst>
                            <p:childTnLst>
                              <p:par>
                                <p:cTn id="25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4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‘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Risk’ is dynamic and subject to constant change, so the process includes </a:t>
            </a:r>
            <a:r>
              <a:rPr b="1" lang="en-US" sz="2600" spc="-1" strike="noStrike" u="sng">
                <a:solidFill>
                  <a:srgbClr val="990033"/>
                </a:solidFill>
                <a:uFillTx/>
                <a:latin typeface="Comic Sans MS"/>
              </a:rPr>
              <a:t>continuing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828800" y="4724280"/>
            <a:ext cx="5486400" cy="6858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ion &amp; consultation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752480" y="3048120"/>
            <a:ext cx="5486400" cy="68580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ing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191120" y="39625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and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137" name="Freeform 17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  <p:sp>
        <p:nvSpPr>
          <p:cNvPr id="144" name="Rectangle 13"/>
          <p:cNvSpPr/>
          <p:nvPr/>
        </p:nvSpPr>
        <p:spPr>
          <a:xfrm>
            <a:off x="1143000" y="2362320"/>
            <a:ext cx="6934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The strategic and organisational context in which risk management will take place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For example, the nature of your business, the risks inherent in your business and your prioritie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the contex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8" nodeType="afterEffect" fill="hold" presetClass="entr" presetID="23" presetSubtype="27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6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124080" y="5181480"/>
            <a:ext cx="449604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066680" y="2286000"/>
            <a:ext cx="7010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Defining types of risk, for instance, ‘Strategic’ risks to the goals and objectives of the organisation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814"/>
              </a:spcAft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Identifying the stakeholders, (i.e.,who is involved or affected).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814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Past events, future development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55" name="Group 24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156" name="Freeform 25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2" nodeType="afterEffect" fill="hold" presetClass="entr" presetID="23" presetSubtype="27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124080" y="5181480"/>
            <a:ext cx="449604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ys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143000" y="2438280"/>
            <a:ext cx="6858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How likely is the risk event to happen?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(Probability and frequency?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What would be the impact, cost or consequences of that event occurring?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(Economic, political, social?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71" name="Group 22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172" name="Freeform 23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7" name="Freeform 28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78" name="Freeform 29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124080" y="5181480"/>
            <a:ext cx="449604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209680" y="1523880"/>
            <a:ext cx="4572000" cy="5335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143000" y="2438280"/>
            <a:ext cx="6629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ank the risks according to management priorities, by risk category and rated by likelihood and possible cost or consequence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etermine inherent levels of risk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188" name="Freeform 22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0" name="Freeform 24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3" name="Freeform 27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194" name="Freeform 28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3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2" nodeType="afterEffect" fill="hold" presetClass="entr" presetID="23" presetSubtype="27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066680" y="2362320"/>
            <a:ext cx="7315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Develop and implement a plan with specific counter-measures to address the identified risk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Consider: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Priorities (Strategic and operational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esources (human, financial and technical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acceptance, (i.e., low risks)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01" name="Group 22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202" name="Freeform 23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3" name="Freeform 24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4" name="Freeform 25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5" name="Freeform 26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6" name="Freeform 27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7" name="Freeform 28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08" name="Freeform 29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evt="end">
                                        <p:tn val="438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500"/>
                            </p:stCondLst>
                            <p:childTnLst>
                              <p:par>
                                <p:cTn id="45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5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838080" y="220968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Document your risk management plan and describe the reasons behind selecting the risk and for the treatment chosen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ecord allocated responsibilities, monitoring or evaluation processes, and assumptions on residual risk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3124080" y="5181480"/>
            <a:ext cx="449604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500"/>
                            </p:stCondLst>
                            <p:childTnLst>
                              <p:par>
                                <p:cTn id="479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3" nodeType="afterEffect" fill="hold" presetClass="entr" presetID="23" presetSubtype="27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676520" y="4419720"/>
            <a:ext cx="6933960" cy="990360"/>
          </a:xfrm>
          <a:prstGeom prst="rect">
            <a:avLst/>
          </a:prstGeom>
          <a:solidFill>
            <a:srgbClr val="000066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Risk Management policies and decisi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must be regularly reviewed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85800" y="2286000"/>
            <a:ext cx="7848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In identifying, prioritising and treating risks, organisations make assumptions and decisions based on situations that are subject to change, (e.g., the business environment, trading patterns, or government policies)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25" name="Group 21"/>
          <p:cNvGrpSpPr/>
          <p:nvPr/>
        </p:nvGrpSpPr>
        <p:grpSpPr>
          <a:xfrm>
            <a:off x="990720" y="1371600"/>
            <a:ext cx="1218960" cy="1066680"/>
            <a:chOff x="990720" y="1371600"/>
            <a:chExt cx="1218960" cy="1066680"/>
          </a:xfrm>
        </p:grpSpPr>
        <p:sp>
          <p:nvSpPr>
            <p:cNvPr id="226" name="Freeform 22"/>
            <p:cNvSpPr/>
            <p:nvPr/>
          </p:nvSpPr>
          <p:spPr>
            <a:xfrm>
              <a:off x="1100160" y="1371600"/>
              <a:ext cx="441000" cy="3927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990720" y="1648440"/>
              <a:ext cx="388800" cy="4374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1008360" y="1964520"/>
              <a:ext cx="441000" cy="37512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1341000" y="2096280"/>
              <a:ext cx="478800" cy="34200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342000"/>
                <a:gd name="textAreaBottom" fmla="*/ 342000 h 34200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1686240" y="2028960"/>
              <a:ext cx="416520" cy="37188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1825920" y="1696680"/>
              <a:ext cx="383760" cy="4323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1755360" y="1445760"/>
              <a:ext cx="449640" cy="3816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evt="end">
                                        <p:tn val="498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500"/>
                            </p:stCondLst>
                            <p:childTnLst>
                              <p:par>
                                <p:cTn id="513" nodeType="afterEffect" fill="hold" presetClass="entr" presetID="5" presetSubtype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7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295280" y="2819520"/>
            <a:ext cx="6096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About …</a:t>
            </a:r>
            <a:endParaRPr b="1" lang="en-US" sz="3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56" name="Picture 10" descr="G:\Pics\unctadb.gif"/>
          <p:cNvPicPr/>
          <p:nvPr/>
        </p:nvPicPr>
        <p:blipFill>
          <a:blip r:embed="rId1"/>
          <a:stretch/>
        </p:blipFill>
        <p:spPr>
          <a:xfrm>
            <a:off x="660240" y="914400"/>
            <a:ext cx="52416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1295280" y="3505320"/>
            <a:ext cx="6629400" cy="15238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Risk Management</a:t>
            </a:r>
            <a:endParaRPr b="1" lang="en-US" sz="4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8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914400" y="2209680"/>
            <a:ext cx="7315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isk Managers must monitor activities and processes to determine the accuracy of planning assumptions and the effectiveness of the measures taken to treat the risk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ethods can include data evaluation,  audit, compliance measurement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286000" y="5638680"/>
            <a:ext cx="449568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e &amp; consul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2286000" y="1523880"/>
            <a:ext cx="4572000" cy="53352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The Risk Management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2590920" y="1676520"/>
            <a:ext cx="4572000" cy="5331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stablish the context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905120" y="2514600"/>
            <a:ext cx="4572000" cy="53352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590920" y="3352680"/>
            <a:ext cx="4572000" cy="533520"/>
          </a:xfrm>
          <a:prstGeom prst="rect">
            <a:avLst/>
          </a:prstGeom>
          <a:solidFill>
            <a:srgbClr val="cc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ys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905120" y="4191120"/>
            <a:ext cx="4572000" cy="53316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590920" y="5029200"/>
            <a:ext cx="4572000" cy="53352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 the risks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49" name="Rectangle 14"/>
          <p:cNvSpPr/>
          <p:nvPr/>
        </p:nvSpPr>
        <p:spPr>
          <a:xfrm rot="16491000">
            <a:off x="-102600" y="3455640"/>
            <a:ext cx="4511520" cy="4953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ing and review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50" name="Rectangle 15"/>
          <p:cNvSpPr/>
          <p:nvPr/>
        </p:nvSpPr>
        <p:spPr>
          <a:xfrm rot="16884600">
            <a:off x="4304880" y="3085920"/>
            <a:ext cx="5486400" cy="5335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munication &amp; consultation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51" name="Group 16"/>
          <p:cNvGrpSpPr/>
          <p:nvPr/>
        </p:nvGrpSpPr>
        <p:grpSpPr>
          <a:xfrm>
            <a:off x="1981080" y="1447920"/>
            <a:ext cx="5257080" cy="4571640"/>
            <a:chOff x="1981080" y="1447920"/>
            <a:chExt cx="5257080" cy="4571640"/>
          </a:xfrm>
        </p:grpSpPr>
        <p:sp>
          <p:nvSpPr>
            <p:cNvPr id="252" name="Freeform 17"/>
            <p:cNvSpPr/>
            <p:nvPr/>
          </p:nvSpPr>
          <p:spPr>
            <a:xfrm>
              <a:off x="2454120" y="1447920"/>
              <a:ext cx="1901880" cy="1683360"/>
            </a:xfrm>
            <a:custGeom>
              <a:avLst/>
              <a:gdLst>
                <a:gd name="textAreaLeft" fmla="*/ 0 w 1901880"/>
                <a:gd name="textAreaRight" fmla="*/ 1902240 w 1901880"/>
                <a:gd name="textAreaTop" fmla="*/ 0 h 1683360"/>
                <a:gd name="textAreaBottom" fmla="*/ 1683720 h 1683360"/>
              </a:gdLst>
              <a:ahLst/>
              <a:rect l="textAreaLeft" t="textAreaTop" r="textAreaRight" b="textAreaBottom"/>
              <a:pathLst>
                <a:path w="1016" h="904">
                  <a:moveTo>
                    <a:pt x="0" y="717"/>
                  </a:moveTo>
                  <a:lnTo>
                    <a:pt x="10" y="698"/>
                  </a:lnTo>
                  <a:lnTo>
                    <a:pt x="20" y="683"/>
                  </a:lnTo>
                  <a:lnTo>
                    <a:pt x="29" y="667"/>
                  </a:lnTo>
                  <a:lnTo>
                    <a:pt x="38" y="652"/>
                  </a:lnTo>
                  <a:lnTo>
                    <a:pt x="48" y="635"/>
                  </a:lnTo>
                  <a:lnTo>
                    <a:pt x="60" y="619"/>
                  </a:lnTo>
                  <a:lnTo>
                    <a:pt x="70" y="604"/>
                  </a:lnTo>
                  <a:lnTo>
                    <a:pt x="81" y="588"/>
                  </a:lnTo>
                  <a:lnTo>
                    <a:pt x="95" y="569"/>
                  </a:lnTo>
                  <a:lnTo>
                    <a:pt x="111" y="549"/>
                  </a:lnTo>
                  <a:lnTo>
                    <a:pt x="123" y="534"/>
                  </a:lnTo>
                  <a:lnTo>
                    <a:pt x="137" y="519"/>
                  </a:lnTo>
                  <a:lnTo>
                    <a:pt x="151" y="502"/>
                  </a:lnTo>
                  <a:lnTo>
                    <a:pt x="167" y="483"/>
                  </a:lnTo>
                  <a:lnTo>
                    <a:pt x="183" y="467"/>
                  </a:lnTo>
                  <a:lnTo>
                    <a:pt x="199" y="449"/>
                  </a:lnTo>
                  <a:lnTo>
                    <a:pt x="215" y="435"/>
                  </a:lnTo>
                  <a:lnTo>
                    <a:pt x="235" y="415"/>
                  </a:lnTo>
                  <a:lnTo>
                    <a:pt x="252" y="399"/>
                  </a:lnTo>
                  <a:lnTo>
                    <a:pt x="269" y="385"/>
                  </a:lnTo>
                  <a:lnTo>
                    <a:pt x="288" y="369"/>
                  </a:lnTo>
                  <a:lnTo>
                    <a:pt x="302" y="357"/>
                  </a:lnTo>
                  <a:lnTo>
                    <a:pt x="321" y="343"/>
                  </a:lnTo>
                  <a:lnTo>
                    <a:pt x="339" y="329"/>
                  </a:lnTo>
                  <a:lnTo>
                    <a:pt x="361" y="314"/>
                  </a:lnTo>
                  <a:lnTo>
                    <a:pt x="379" y="302"/>
                  </a:lnTo>
                  <a:lnTo>
                    <a:pt x="400" y="286"/>
                  </a:lnTo>
                  <a:lnTo>
                    <a:pt x="425" y="271"/>
                  </a:lnTo>
                  <a:lnTo>
                    <a:pt x="449" y="256"/>
                  </a:lnTo>
                  <a:lnTo>
                    <a:pt x="473" y="241"/>
                  </a:lnTo>
                  <a:lnTo>
                    <a:pt x="498" y="227"/>
                  </a:lnTo>
                  <a:lnTo>
                    <a:pt x="524" y="214"/>
                  </a:lnTo>
                  <a:lnTo>
                    <a:pt x="552" y="200"/>
                  </a:lnTo>
                  <a:lnTo>
                    <a:pt x="575" y="191"/>
                  </a:lnTo>
                  <a:lnTo>
                    <a:pt x="597" y="179"/>
                  </a:lnTo>
                  <a:lnTo>
                    <a:pt x="623" y="170"/>
                  </a:lnTo>
                  <a:lnTo>
                    <a:pt x="641" y="163"/>
                  </a:lnTo>
                  <a:lnTo>
                    <a:pt x="563" y="0"/>
                  </a:lnTo>
                  <a:lnTo>
                    <a:pt x="1016" y="232"/>
                  </a:lnTo>
                  <a:lnTo>
                    <a:pt x="897" y="711"/>
                  </a:lnTo>
                  <a:lnTo>
                    <a:pt x="824" y="569"/>
                  </a:lnTo>
                  <a:lnTo>
                    <a:pt x="794" y="582"/>
                  </a:lnTo>
                  <a:lnTo>
                    <a:pt x="765" y="596"/>
                  </a:lnTo>
                  <a:lnTo>
                    <a:pt x="734" y="613"/>
                  </a:lnTo>
                  <a:lnTo>
                    <a:pt x="700" y="633"/>
                  </a:lnTo>
                  <a:lnTo>
                    <a:pt x="674" y="650"/>
                  </a:lnTo>
                  <a:lnTo>
                    <a:pt x="648" y="670"/>
                  </a:lnTo>
                  <a:lnTo>
                    <a:pt x="622" y="689"/>
                  </a:lnTo>
                  <a:lnTo>
                    <a:pt x="600" y="709"/>
                  </a:lnTo>
                  <a:lnTo>
                    <a:pt x="579" y="729"/>
                  </a:lnTo>
                  <a:lnTo>
                    <a:pt x="555" y="752"/>
                  </a:lnTo>
                  <a:lnTo>
                    <a:pt x="536" y="774"/>
                  </a:lnTo>
                  <a:lnTo>
                    <a:pt x="516" y="796"/>
                  </a:lnTo>
                  <a:lnTo>
                    <a:pt x="499" y="816"/>
                  </a:lnTo>
                  <a:lnTo>
                    <a:pt x="481" y="842"/>
                  </a:lnTo>
                  <a:lnTo>
                    <a:pt x="464" y="867"/>
                  </a:lnTo>
                  <a:lnTo>
                    <a:pt x="455" y="885"/>
                  </a:lnTo>
                  <a:lnTo>
                    <a:pt x="443" y="904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dddddd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1981080" y="2635560"/>
              <a:ext cx="1677600" cy="1874880"/>
            </a:xfrm>
            <a:custGeom>
              <a:avLst/>
              <a:gdLst>
                <a:gd name="textAreaLeft" fmla="*/ 0 w 1677600"/>
                <a:gd name="textAreaRight" fmla="*/ 1677960 w 1677600"/>
                <a:gd name="textAreaTop" fmla="*/ 0 h 1874880"/>
                <a:gd name="textAreaBottom" fmla="*/ 1875240 h 1874880"/>
              </a:gdLst>
              <a:ahLst/>
              <a:rect l="textAreaLeft" t="textAreaTop" r="textAreaRight" b="textAreaBottom"/>
              <a:pathLst>
                <a:path w="895" h="1006">
                  <a:moveTo>
                    <a:pt x="895" y="416"/>
                  </a:moveTo>
                  <a:lnTo>
                    <a:pt x="667" y="332"/>
                  </a:lnTo>
                  <a:lnTo>
                    <a:pt x="657" y="352"/>
                  </a:lnTo>
                  <a:lnTo>
                    <a:pt x="652" y="371"/>
                  </a:lnTo>
                  <a:lnTo>
                    <a:pt x="646" y="390"/>
                  </a:lnTo>
                  <a:lnTo>
                    <a:pt x="641" y="411"/>
                  </a:lnTo>
                  <a:lnTo>
                    <a:pt x="634" y="438"/>
                  </a:lnTo>
                  <a:lnTo>
                    <a:pt x="630" y="460"/>
                  </a:lnTo>
                  <a:lnTo>
                    <a:pt x="626" y="485"/>
                  </a:lnTo>
                  <a:lnTo>
                    <a:pt x="624" y="511"/>
                  </a:lnTo>
                  <a:lnTo>
                    <a:pt x="621" y="539"/>
                  </a:lnTo>
                  <a:lnTo>
                    <a:pt x="621" y="589"/>
                  </a:lnTo>
                  <a:lnTo>
                    <a:pt x="622" y="615"/>
                  </a:lnTo>
                  <a:lnTo>
                    <a:pt x="624" y="639"/>
                  </a:lnTo>
                  <a:lnTo>
                    <a:pt x="628" y="664"/>
                  </a:lnTo>
                  <a:lnTo>
                    <a:pt x="633" y="688"/>
                  </a:lnTo>
                  <a:lnTo>
                    <a:pt x="638" y="711"/>
                  </a:lnTo>
                  <a:lnTo>
                    <a:pt x="644" y="739"/>
                  </a:lnTo>
                  <a:lnTo>
                    <a:pt x="654" y="765"/>
                  </a:lnTo>
                  <a:lnTo>
                    <a:pt x="227" y="1006"/>
                  </a:lnTo>
                  <a:lnTo>
                    <a:pt x="217" y="981"/>
                  </a:lnTo>
                  <a:lnTo>
                    <a:pt x="208" y="960"/>
                  </a:lnTo>
                  <a:lnTo>
                    <a:pt x="200" y="940"/>
                  </a:lnTo>
                  <a:lnTo>
                    <a:pt x="192" y="918"/>
                  </a:lnTo>
                  <a:lnTo>
                    <a:pt x="185" y="900"/>
                  </a:lnTo>
                  <a:lnTo>
                    <a:pt x="178" y="879"/>
                  </a:lnTo>
                  <a:lnTo>
                    <a:pt x="172" y="859"/>
                  </a:lnTo>
                  <a:lnTo>
                    <a:pt x="167" y="840"/>
                  </a:lnTo>
                  <a:lnTo>
                    <a:pt x="162" y="821"/>
                  </a:lnTo>
                  <a:lnTo>
                    <a:pt x="156" y="797"/>
                  </a:lnTo>
                  <a:lnTo>
                    <a:pt x="152" y="773"/>
                  </a:lnTo>
                  <a:lnTo>
                    <a:pt x="146" y="750"/>
                  </a:lnTo>
                  <a:lnTo>
                    <a:pt x="141" y="728"/>
                  </a:lnTo>
                  <a:lnTo>
                    <a:pt x="139" y="702"/>
                  </a:lnTo>
                  <a:lnTo>
                    <a:pt x="136" y="678"/>
                  </a:lnTo>
                  <a:lnTo>
                    <a:pt x="133" y="650"/>
                  </a:lnTo>
                  <a:lnTo>
                    <a:pt x="131" y="623"/>
                  </a:lnTo>
                  <a:lnTo>
                    <a:pt x="131" y="596"/>
                  </a:lnTo>
                  <a:lnTo>
                    <a:pt x="131" y="568"/>
                  </a:lnTo>
                  <a:lnTo>
                    <a:pt x="131" y="533"/>
                  </a:lnTo>
                  <a:lnTo>
                    <a:pt x="132" y="502"/>
                  </a:lnTo>
                  <a:lnTo>
                    <a:pt x="133" y="481"/>
                  </a:lnTo>
                  <a:lnTo>
                    <a:pt x="136" y="455"/>
                  </a:lnTo>
                  <a:lnTo>
                    <a:pt x="139" y="431"/>
                  </a:lnTo>
                  <a:lnTo>
                    <a:pt x="142" y="402"/>
                  </a:lnTo>
                  <a:lnTo>
                    <a:pt x="148" y="376"/>
                  </a:lnTo>
                  <a:lnTo>
                    <a:pt x="153" y="353"/>
                  </a:lnTo>
                  <a:lnTo>
                    <a:pt x="159" y="323"/>
                  </a:lnTo>
                  <a:lnTo>
                    <a:pt x="166" y="300"/>
                  </a:lnTo>
                  <a:lnTo>
                    <a:pt x="172" y="272"/>
                  </a:lnTo>
                  <a:lnTo>
                    <a:pt x="180" y="248"/>
                  </a:lnTo>
                  <a:lnTo>
                    <a:pt x="189" y="223"/>
                  </a:lnTo>
                  <a:lnTo>
                    <a:pt x="199" y="197"/>
                  </a:lnTo>
                  <a:lnTo>
                    <a:pt x="212" y="166"/>
                  </a:lnTo>
                  <a:lnTo>
                    <a:pt x="0" y="87"/>
                  </a:lnTo>
                  <a:lnTo>
                    <a:pt x="557" y="0"/>
                  </a:lnTo>
                  <a:lnTo>
                    <a:pt x="895" y="416"/>
                  </a:lnTo>
                  <a:close/>
                </a:path>
              </a:pathLst>
            </a:custGeom>
            <a:solidFill>
              <a:srgbClr val="ffcc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4" name="Freeform 19"/>
            <p:cNvSpPr/>
            <p:nvPr/>
          </p:nvSpPr>
          <p:spPr>
            <a:xfrm>
              <a:off x="2057760" y="3988800"/>
              <a:ext cx="1901880" cy="1608120"/>
            </a:xfrm>
            <a:custGeom>
              <a:avLst/>
              <a:gdLst>
                <a:gd name="textAreaLeft" fmla="*/ 0 w 1901880"/>
                <a:gd name="textAreaRight" fmla="*/ 1902240 w 1901880"/>
                <a:gd name="textAreaTop" fmla="*/ 0 h 1608120"/>
                <a:gd name="textAreaBottom" fmla="*/ 1608480 h 1608120"/>
              </a:gdLst>
              <a:ahLst/>
              <a:rect l="textAreaLeft" t="textAreaTop" r="textAreaRight" b="textAreaBottom"/>
              <a:pathLst>
                <a:path w="1015" h="862">
                  <a:moveTo>
                    <a:pt x="807" y="862"/>
                  </a:moveTo>
                  <a:lnTo>
                    <a:pt x="786" y="853"/>
                  </a:lnTo>
                  <a:lnTo>
                    <a:pt x="769" y="845"/>
                  </a:lnTo>
                  <a:lnTo>
                    <a:pt x="751" y="837"/>
                  </a:lnTo>
                  <a:lnTo>
                    <a:pt x="734" y="829"/>
                  </a:lnTo>
                  <a:lnTo>
                    <a:pt x="716" y="819"/>
                  </a:lnTo>
                  <a:lnTo>
                    <a:pt x="697" y="810"/>
                  </a:lnTo>
                  <a:lnTo>
                    <a:pt x="680" y="799"/>
                  </a:lnTo>
                  <a:lnTo>
                    <a:pt x="662" y="790"/>
                  </a:lnTo>
                  <a:lnTo>
                    <a:pt x="641" y="777"/>
                  </a:lnTo>
                  <a:lnTo>
                    <a:pt x="619" y="765"/>
                  </a:lnTo>
                  <a:lnTo>
                    <a:pt x="602" y="753"/>
                  </a:lnTo>
                  <a:lnTo>
                    <a:pt x="585" y="740"/>
                  </a:lnTo>
                  <a:lnTo>
                    <a:pt x="566" y="727"/>
                  </a:lnTo>
                  <a:lnTo>
                    <a:pt x="545" y="713"/>
                  </a:lnTo>
                  <a:lnTo>
                    <a:pt x="527" y="699"/>
                  </a:lnTo>
                  <a:lnTo>
                    <a:pt x="507" y="684"/>
                  </a:lnTo>
                  <a:lnTo>
                    <a:pt x="491" y="672"/>
                  </a:lnTo>
                  <a:lnTo>
                    <a:pt x="469" y="653"/>
                  </a:lnTo>
                  <a:lnTo>
                    <a:pt x="451" y="638"/>
                  </a:lnTo>
                  <a:lnTo>
                    <a:pt x="435" y="623"/>
                  </a:lnTo>
                  <a:lnTo>
                    <a:pt x="417" y="605"/>
                  </a:lnTo>
                  <a:lnTo>
                    <a:pt x="404" y="592"/>
                  </a:lnTo>
                  <a:lnTo>
                    <a:pt x="388" y="576"/>
                  </a:lnTo>
                  <a:lnTo>
                    <a:pt x="373" y="560"/>
                  </a:lnTo>
                  <a:lnTo>
                    <a:pt x="356" y="540"/>
                  </a:lnTo>
                  <a:lnTo>
                    <a:pt x="340" y="524"/>
                  </a:lnTo>
                  <a:lnTo>
                    <a:pt x="324" y="505"/>
                  </a:lnTo>
                  <a:lnTo>
                    <a:pt x="306" y="483"/>
                  </a:lnTo>
                  <a:lnTo>
                    <a:pt x="291" y="462"/>
                  </a:lnTo>
                  <a:lnTo>
                    <a:pt x="274" y="440"/>
                  </a:lnTo>
                  <a:lnTo>
                    <a:pt x="258" y="418"/>
                  </a:lnTo>
                  <a:lnTo>
                    <a:pt x="244" y="395"/>
                  </a:lnTo>
                  <a:lnTo>
                    <a:pt x="228" y="370"/>
                  </a:lnTo>
                  <a:lnTo>
                    <a:pt x="218" y="349"/>
                  </a:lnTo>
                  <a:lnTo>
                    <a:pt x="204" y="330"/>
                  </a:lnTo>
                  <a:lnTo>
                    <a:pt x="194" y="307"/>
                  </a:lnTo>
                  <a:lnTo>
                    <a:pt x="0" y="389"/>
                  </a:lnTo>
                  <a:lnTo>
                    <a:pt x="319" y="0"/>
                  </a:lnTo>
                  <a:lnTo>
                    <a:pt x="859" y="42"/>
                  </a:lnTo>
                  <a:lnTo>
                    <a:pt x="641" y="130"/>
                  </a:lnTo>
                  <a:lnTo>
                    <a:pt x="656" y="154"/>
                  </a:lnTo>
                  <a:lnTo>
                    <a:pt x="671" y="180"/>
                  </a:lnTo>
                  <a:lnTo>
                    <a:pt x="691" y="207"/>
                  </a:lnTo>
                  <a:lnTo>
                    <a:pt x="713" y="238"/>
                  </a:lnTo>
                  <a:lnTo>
                    <a:pt x="733" y="261"/>
                  </a:lnTo>
                  <a:lnTo>
                    <a:pt x="755" y="284"/>
                  </a:lnTo>
                  <a:lnTo>
                    <a:pt x="776" y="307"/>
                  </a:lnTo>
                  <a:lnTo>
                    <a:pt x="798" y="327"/>
                  </a:lnTo>
                  <a:lnTo>
                    <a:pt x="821" y="346"/>
                  </a:lnTo>
                  <a:lnTo>
                    <a:pt x="846" y="367"/>
                  </a:lnTo>
                  <a:lnTo>
                    <a:pt x="871" y="384"/>
                  </a:lnTo>
                  <a:lnTo>
                    <a:pt x="894" y="402"/>
                  </a:lnTo>
                  <a:lnTo>
                    <a:pt x="918" y="417"/>
                  </a:lnTo>
                  <a:lnTo>
                    <a:pt x="946" y="433"/>
                  </a:lnTo>
                  <a:lnTo>
                    <a:pt x="975" y="448"/>
                  </a:lnTo>
                  <a:lnTo>
                    <a:pt x="996" y="456"/>
                  </a:lnTo>
                  <a:lnTo>
                    <a:pt x="1015" y="467"/>
                  </a:lnTo>
                  <a:lnTo>
                    <a:pt x="807" y="862"/>
                  </a:lnTo>
                  <a:close/>
                </a:path>
              </a:pathLst>
            </a:custGeom>
            <a:solidFill>
              <a:srgbClr val="ff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3491640" y="4553280"/>
              <a:ext cx="2066040" cy="1466280"/>
            </a:xfrm>
            <a:custGeom>
              <a:avLst/>
              <a:gdLst>
                <a:gd name="textAreaLeft" fmla="*/ 0 w 2066040"/>
                <a:gd name="textAreaRight" fmla="*/ 2066400 w 2066040"/>
                <a:gd name="textAreaTop" fmla="*/ 0 h 1466280"/>
                <a:gd name="textAreaBottom" fmla="*/ 1466640 h 1466280"/>
              </a:gdLst>
              <a:ahLst/>
              <a:rect l="textAreaLeft" t="textAreaTop" r="textAreaRight" b="textAreaBottom"/>
              <a:pathLst>
                <a:path w="1103" h="787">
                  <a:moveTo>
                    <a:pt x="442" y="0"/>
                  </a:moveTo>
                  <a:lnTo>
                    <a:pt x="350" y="203"/>
                  </a:lnTo>
                  <a:lnTo>
                    <a:pt x="372" y="211"/>
                  </a:lnTo>
                  <a:lnTo>
                    <a:pt x="391" y="216"/>
                  </a:lnTo>
                  <a:lnTo>
                    <a:pt x="413" y="222"/>
                  </a:lnTo>
                  <a:lnTo>
                    <a:pt x="438" y="228"/>
                  </a:lnTo>
                  <a:lnTo>
                    <a:pt x="467" y="232"/>
                  </a:lnTo>
                  <a:lnTo>
                    <a:pt x="493" y="236"/>
                  </a:lnTo>
                  <a:lnTo>
                    <a:pt x="519" y="239"/>
                  </a:lnTo>
                  <a:lnTo>
                    <a:pt x="549" y="243"/>
                  </a:lnTo>
                  <a:lnTo>
                    <a:pt x="580" y="245"/>
                  </a:lnTo>
                  <a:lnTo>
                    <a:pt x="636" y="245"/>
                  </a:lnTo>
                  <a:lnTo>
                    <a:pt x="666" y="244"/>
                  </a:lnTo>
                  <a:lnTo>
                    <a:pt x="692" y="242"/>
                  </a:lnTo>
                  <a:lnTo>
                    <a:pt x="720" y="238"/>
                  </a:lnTo>
                  <a:lnTo>
                    <a:pt x="749" y="233"/>
                  </a:lnTo>
                  <a:lnTo>
                    <a:pt x="773" y="230"/>
                  </a:lnTo>
                  <a:lnTo>
                    <a:pt x="805" y="223"/>
                  </a:lnTo>
                  <a:lnTo>
                    <a:pt x="835" y="215"/>
                  </a:lnTo>
                  <a:lnTo>
                    <a:pt x="1103" y="595"/>
                  </a:lnTo>
                  <a:lnTo>
                    <a:pt x="1077" y="604"/>
                  </a:lnTo>
                  <a:lnTo>
                    <a:pt x="1052" y="613"/>
                  </a:lnTo>
                  <a:lnTo>
                    <a:pt x="1030" y="620"/>
                  </a:lnTo>
                  <a:lnTo>
                    <a:pt x="1007" y="627"/>
                  </a:lnTo>
                  <a:lnTo>
                    <a:pt x="985" y="632"/>
                  </a:lnTo>
                  <a:lnTo>
                    <a:pt x="961" y="639"/>
                  </a:lnTo>
                  <a:lnTo>
                    <a:pt x="940" y="644"/>
                  </a:lnTo>
                  <a:lnTo>
                    <a:pt x="918" y="649"/>
                  </a:lnTo>
                  <a:lnTo>
                    <a:pt x="896" y="653"/>
                  </a:lnTo>
                  <a:lnTo>
                    <a:pt x="871" y="659"/>
                  </a:lnTo>
                  <a:lnTo>
                    <a:pt x="842" y="663"/>
                  </a:lnTo>
                  <a:lnTo>
                    <a:pt x="818" y="667"/>
                  </a:lnTo>
                  <a:lnTo>
                    <a:pt x="792" y="672"/>
                  </a:lnTo>
                  <a:lnTo>
                    <a:pt x="764" y="675"/>
                  </a:lnTo>
                  <a:lnTo>
                    <a:pt x="736" y="678"/>
                  </a:lnTo>
                  <a:lnTo>
                    <a:pt x="704" y="679"/>
                  </a:lnTo>
                  <a:lnTo>
                    <a:pt x="674" y="681"/>
                  </a:lnTo>
                  <a:lnTo>
                    <a:pt x="646" y="681"/>
                  </a:lnTo>
                  <a:lnTo>
                    <a:pt x="614" y="681"/>
                  </a:lnTo>
                  <a:lnTo>
                    <a:pt x="575" y="681"/>
                  </a:lnTo>
                  <a:lnTo>
                    <a:pt x="540" y="680"/>
                  </a:lnTo>
                  <a:lnTo>
                    <a:pt x="515" y="679"/>
                  </a:lnTo>
                  <a:lnTo>
                    <a:pt x="488" y="678"/>
                  </a:lnTo>
                  <a:lnTo>
                    <a:pt x="459" y="675"/>
                  </a:lnTo>
                  <a:lnTo>
                    <a:pt x="426" y="671"/>
                  </a:lnTo>
                  <a:lnTo>
                    <a:pt x="399" y="666"/>
                  </a:lnTo>
                  <a:lnTo>
                    <a:pt x="372" y="663"/>
                  </a:lnTo>
                  <a:lnTo>
                    <a:pt x="338" y="656"/>
                  </a:lnTo>
                  <a:lnTo>
                    <a:pt x="313" y="650"/>
                  </a:lnTo>
                  <a:lnTo>
                    <a:pt x="282" y="644"/>
                  </a:lnTo>
                  <a:lnTo>
                    <a:pt x="254" y="637"/>
                  </a:lnTo>
                  <a:lnTo>
                    <a:pt x="227" y="630"/>
                  </a:lnTo>
                  <a:lnTo>
                    <a:pt x="198" y="621"/>
                  </a:lnTo>
                  <a:lnTo>
                    <a:pt x="163" y="609"/>
                  </a:lnTo>
                  <a:lnTo>
                    <a:pt x="80" y="787"/>
                  </a:lnTo>
                  <a:lnTo>
                    <a:pt x="0" y="282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ccff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4980240" y="4265280"/>
              <a:ext cx="1797480" cy="159372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593720"/>
                <a:gd name="textAreaBottom" fmla="*/ 1594080 h 1593720"/>
              </a:gdLst>
              <a:ahLst/>
              <a:rect l="textAreaLeft" t="textAreaTop" r="textAreaRight" b="textAreaBottom"/>
              <a:pathLst>
                <a:path w="959" h="855">
                  <a:moveTo>
                    <a:pt x="959" y="187"/>
                  </a:moveTo>
                  <a:lnTo>
                    <a:pt x="947" y="206"/>
                  </a:lnTo>
                  <a:lnTo>
                    <a:pt x="939" y="221"/>
                  </a:lnTo>
                  <a:lnTo>
                    <a:pt x="929" y="237"/>
                  </a:lnTo>
                  <a:lnTo>
                    <a:pt x="921" y="253"/>
                  </a:lnTo>
                  <a:lnTo>
                    <a:pt x="911" y="269"/>
                  </a:lnTo>
                  <a:lnTo>
                    <a:pt x="899" y="285"/>
                  </a:lnTo>
                  <a:lnTo>
                    <a:pt x="888" y="300"/>
                  </a:lnTo>
                  <a:lnTo>
                    <a:pt x="877" y="317"/>
                  </a:lnTo>
                  <a:lnTo>
                    <a:pt x="862" y="335"/>
                  </a:lnTo>
                  <a:lnTo>
                    <a:pt x="848" y="354"/>
                  </a:lnTo>
                  <a:lnTo>
                    <a:pt x="836" y="369"/>
                  </a:lnTo>
                  <a:lnTo>
                    <a:pt x="822" y="384"/>
                  </a:lnTo>
                  <a:lnTo>
                    <a:pt x="806" y="403"/>
                  </a:lnTo>
                  <a:lnTo>
                    <a:pt x="791" y="421"/>
                  </a:lnTo>
                  <a:lnTo>
                    <a:pt x="775" y="437"/>
                  </a:lnTo>
                  <a:lnTo>
                    <a:pt x="758" y="455"/>
                  </a:lnTo>
                  <a:lnTo>
                    <a:pt x="744" y="469"/>
                  </a:lnTo>
                  <a:lnTo>
                    <a:pt x="723" y="489"/>
                  </a:lnTo>
                  <a:lnTo>
                    <a:pt x="706" y="505"/>
                  </a:lnTo>
                  <a:lnTo>
                    <a:pt x="689" y="519"/>
                  </a:lnTo>
                  <a:lnTo>
                    <a:pt x="669" y="535"/>
                  </a:lnTo>
                  <a:lnTo>
                    <a:pt x="655" y="547"/>
                  </a:lnTo>
                  <a:lnTo>
                    <a:pt x="637" y="561"/>
                  </a:lnTo>
                  <a:lnTo>
                    <a:pt x="619" y="575"/>
                  </a:lnTo>
                  <a:lnTo>
                    <a:pt x="598" y="590"/>
                  </a:lnTo>
                  <a:lnTo>
                    <a:pt x="579" y="603"/>
                  </a:lnTo>
                  <a:lnTo>
                    <a:pt x="559" y="617"/>
                  </a:lnTo>
                  <a:lnTo>
                    <a:pt x="532" y="633"/>
                  </a:lnTo>
                  <a:lnTo>
                    <a:pt x="510" y="647"/>
                  </a:lnTo>
                  <a:lnTo>
                    <a:pt x="486" y="662"/>
                  </a:lnTo>
                  <a:lnTo>
                    <a:pt x="461" y="677"/>
                  </a:lnTo>
                  <a:lnTo>
                    <a:pt x="435" y="690"/>
                  </a:lnTo>
                  <a:lnTo>
                    <a:pt x="568" y="855"/>
                  </a:lnTo>
                  <a:lnTo>
                    <a:pt x="41" y="643"/>
                  </a:lnTo>
                  <a:lnTo>
                    <a:pt x="0" y="226"/>
                  </a:lnTo>
                  <a:lnTo>
                    <a:pt x="111" y="344"/>
                  </a:lnTo>
                  <a:lnTo>
                    <a:pt x="136" y="334"/>
                  </a:lnTo>
                  <a:lnTo>
                    <a:pt x="161" y="322"/>
                  </a:lnTo>
                  <a:lnTo>
                    <a:pt x="193" y="307"/>
                  </a:lnTo>
                  <a:lnTo>
                    <a:pt x="225" y="291"/>
                  </a:lnTo>
                  <a:lnTo>
                    <a:pt x="257" y="271"/>
                  </a:lnTo>
                  <a:lnTo>
                    <a:pt x="285" y="254"/>
                  </a:lnTo>
                  <a:lnTo>
                    <a:pt x="311" y="234"/>
                  </a:lnTo>
                  <a:lnTo>
                    <a:pt x="337" y="214"/>
                  </a:lnTo>
                  <a:lnTo>
                    <a:pt x="358" y="196"/>
                  </a:lnTo>
                  <a:lnTo>
                    <a:pt x="380" y="175"/>
                  </a:lnTo>
                  <a:lnTo>
                    <a:pt x="403" y="151"/>
                  </a:lnTo>
                  <a:lnTo>
                    <a:pt x="423" y="130"/>
                  </a:lnTo>
                  <a:lnTo>
                    <a:pt x="443" y="108"/>
                  </a:lnTo>
                  <a:lnTo>
                    <a:pt x="459" y="89"/>
                  </a:lnTo>
                  <a:lnTo>
                    <a:pt x="478" y="62"/>
                  </a:lnTo>
                  <a:lnTo>
                    <a:pt x="495" y="37"/>
                  </a:lnTo>
                  <a:lnTo>
                    <a:pt x="504" y="19"/>
                  </a:lnTo>
                  <a:lnTo>
                    <a:pt x="514" y="0"/>
                  </a:lnTo>
                  <a:lnTo>
                    <a:pt x="959" y="187"/>
                  </a:lnTo>
                  <a:close/>
                </a:path>
              </a:pathLst>
            </a:custGeom>
            <a:solidFill>
              <a:srgbClr val="ccff99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5583240" y="2841120"/>
              <a:ext cx="1654920" cy="1853280"/>
            </a:xfrm>
            <a:custGeom>
              <a:avLst/>
              <a:gdLst>
                <a:gd name="textAreaLeft" fmla="*/ 0 w 1654920"/>
                <a:gd name="textAreaRight" fmla="*/ 1655280 w 1654920"/>
                <a:gd name="textAreaTop" fmla="*/ 0 h 1853280"/>
                <a:gd name="textAreaBottom" fmla="*/ 1853640 h 1853280"/>
              </a:gdLst>
              <a:ahLst/>
              <a:rect l="textAreaLeft" t="textAreaTop" r="textAreaRight" b="textAreaBottom"/>
              <a:pathLst>
                <a:path w="884" h="994">
                  <a:moveTo>
                    <a:pt x="0" y="632"/>
                  </a:moveTo>
                  <a:lnTo>
                    <a:pt x="221" y="706"/>
                  </a:lnTo>
                  <a:lnTo>
                    <a:pt x="232" y="682"/>
                  </a:lnTo>
                  <a:lnTo>
                    <a:pt x="241" y="657"/>
                  </a:lnTo>
                  <a:lnTo>
                    <a:pt x="248" y="635"/>
                  </a:lnTo>
                  <a:lnTo>
                    <a:pt x="254" y="615"/>
                  </a:lnTo>
                  <a:lnTo>
                    <a:pt x="261" y="593"/>
                  </a:lnTo>
                  <a:lnTo>
                    <a:pt x="266" y="568"/>
                  </a:lnTo>
                  <a:lnTo>
                    <a:pt x="270" y="544"/>
                  </a:lnTo>
                  <a:lnTo>
                    <a:pt x="274" y="521"/>
                  </a:lnTo>
                  <a:lnTo>
                    <a:pt x="278" y="494"/>
                  </a:lnTo>
                  <a:lnTo>
                    <a:pt x="279" y="466"/>
                  </a:lnTo>
                  <a:lnTo>
                    <a:pt x="279" y="416"/>
                  </a:lnTo>
                  <a:lnTo>
                    <a:pt x="278" y="390"/>
                  </a:lnTo>
                  <a:lnTo>
                    <a:pt x="277" y="366"/>
                  </a:lnTo>
                  <a:lnTo>
                    <a:pt x="273" y="342"/>
                  </a:lnTo>
                  <a:lnTo>
                    <a:pt x="268" y="316"/>
                  </a:lnTo>
                  <a:lnTo>
                    <a:pt x="262" y="294"/>
                  </a:lnTo>
                  <a:lnTo>
                    <a:pt x="256" y="266"/>
                  </a:lnTo>
                  <a:lnTo>
                    <a:pt x="247" y="240"/>
                  </a:lnTo>
                  <a:lnTo>
                    <a:pt x="673" y="0"/>
                  </a:lnTo>
                  <a:lnTo>
                    <a:pt x="683" y="23"/>
                  </a:lnTo>
                  <a:lnTo>
                    <a:pt x="693" y="45"/>
                  </a:lnTo>
                  <a:lnTo>
                    <a:pt x="700" y="65"/>
                  </a:lnTo>
                  <a:lnTo>
                    <a:pt x="708" y="86"/>
                  </a:lnTo>
                  <a:lnTo>
                    <a:pt x="715" y="106"/>
                  </a:lnTo>
                  <a:lnTo>
                    <a:pt x="723" y="127"/>
                  </a:lnTo>
                  <a:lnTo>
                    <a:pt x="728" y="145"/>
                  </a:lnTo>
                  <a:lnTo>
                    <a:pt x="733" y="165"/>
                  </a:lnTo>
                  <a:lnTo>
                    <a:pt x="738" y="185"/>
                  </a:lnTo>
                  <a:lnTo>
                    <a:pt x="745" y="207"/>
                  </a:lnTo>
                  <a:lnTo>
                    <a:pt x="749" y="233"/>
                  </a:lnTo>
                  <a:lnTo>
                    <a:pt x="754" y="255"/>
                  </a:lnTo>
                  <a:lnTo>
                    <a:pt x="759" y="278"/>
                  </a:lnTo>
                  <a:lnTo>
                    <a:pt x="763" y="302"/>
                  </a:lnTo>
                  <a:lnTo>
                    <a:pt x="764" y="328"/>
                  </a:lnTo>
                  <a:lnTo>
                    <a:pt x="767" y="356"/>
                  </a:lnTo>
                  <a:lnTo>
                    <a:pt x="770" y="383"/>
                  </a:lnTo>
                  <a:lnTo>
                    <a:pt x="770" y="408"/>
                  </a:lnTo>
                  <a:lnTo>
                    <a:pt x="770" y="436"/>
                  </a:lnTo>
                  <a:lnTo>
                    <a:pt x="770" y="471"/>
                  </a:lnTo>
                  <a:lnTo>
                    <a:pt x="768" y="502"/>
                  </a:lnTo>
                  <a:lnTo>
                    <a:pt x="767" y="525"/>
                  </a:lnTo>
                  <a:lnTo>
                    <a:pt x="764" y="549"/>
                  </a:lnTo>
                  <a:lnTo>
                    <a:pt x="763" y="575"/>
                  </a:lnTo>
                  <a:lnTo>
                    <a:pt x="758" y="604"/>
                  </a:lnTo>
                  <a:lnTo>
                    <a:pt x="753" y="628"/>
                  </a:lnTo>
                  <a:lnTo>
                    <a:pt x="747" y="653"/>
                  </a:lnTo>
                  <a:lnTo>
                    <a:pt x="741" y="683"/>
                  </a:lnTo>
                  <a:lnTo>
                    <a:pt x="734" y="705"/>
                  </a:lnTo>
                  <a:lnTo>
                    <a:pt x="728" y="733"/>
                  </a:lnTo>
                  <a:lnTo>
                    <a:pt x="720" y="757"/>
                  </a:lnTo>
                  <a:lnTo>
                    <a:pt x="711" y="782"/>
                  </a:lnTo>
                  <a:lnTo>
                    <a:pt x="702" y="807"/>
                  </a:lnTo>
                  <a:lnTo>
                    <a:pt x="690" y="839"/>
                  </a:lnTo>
                  <a:lnTo>
                    <a:pt x="677" y="870"/>
                  </a:lnTo>
                  <a:lnTo>
                    <a:pt x="884" y="946"/>
                  </a:lnTo>
                  <a:lnTo>
                    <a:pt x="363" y="994"/>
                  </a:lnTo>
                  <a:lnTo>
                    <a:pt x="0" y="632"/>
                  </a:lnTo>
                  <a:close/>
                </a:path>
              </a:pathLst>
            </a:custGeom>
            <a:solidFill>
              <a:srgbClr val="b2b2b2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5279400" y="1766520"/>
              <a:ext cx="1938960" cy="1636560"/>
            </a:xfrm>
            <a:custGeom>
              <a:avLst/>
              <a:gdLst>
                <a:gd name="textAreaLeft" fmla="*/ 0 w 1938960"/>
                <a:gd name="textAreaRight" fmla="*/ 1939320 w 1938960"/>
                <a:gd name="textAreaTop" fmla="*/ 0 h 1636560"/>
                <a:gd name="textAreaBottom" fmla="*/ 1636920 h 1636560"/>
              </a:gdLst>
              <a:ahLst/>
              <a:rect l="textAreaLeft" t="textAreaTop" r="textAreaRight" b="textAreaBottom"/>
              <a:pathLst>
                <a:path w="1034" h="878">
                  <a:moveTo>
                    <a:pt x="209" y="0"/>
                  </a:moveTo>
                  <a:lnTo>
                    <a:pt x="230" y="10"/>
                  </a:lnTo>
                  <a:lnTo>
                    <a:pt x="247" y="18"/>
                  </a:lnTo>
                  <a:lnTo>
                    <a:pt x="266" y="26"/>
                  </a:lnTo>
                  <a:lnTo>
                    <a:pt x="283" y="34"/>
                  </a:lnTo>
                  <a:lnTo>
                    <a:pt x="301" y="43"/>
                  </a:lnTo>
                  <a:lnTo>
                    <a:pt x="318" y="54"/>
                  </a:lnTo>
                  <a:lnTo>
                    <a:pt x="335" y="63"/>
                  </a:lnTo>
                  <a:lnTo>
                    <a:pt x="353" y="72"/>
                  </a:lnTo>
                  <a:lnTo>
                    <a:pt x="374" y="85"/>
                  </a:lnTo>
                  <a:lnTo>
                    <a:pt x="396" y="99"/>
                  </a:lnTo>
                  <a:lnTo>
                    <a:pt x="413" y="110"/>
                  </a:lnTo>
                  <a:lnTo>
                    <a:pt x="430" y="122"/>
                  </a:lnTo>
                  <a:lnTo>
                    <a:pt x="451" y="135"/>
                  </a:lnTo>
                  <a:lnTo>
                    <a:pt x="472" y="149"/>
                  </a:lnTo>
                  <a:lnTo>
                    <a:pt x="490" y="163"/>
                  </a:lnTo>
                  <a:lnTo>
                    <a:pt x="508" y="178"/>
                  </a:lnTo>
                  <a:lnTo>
                    <a:pt x="525" y="192"/>
                  </a:lnTo>
                  <a:lnTo>
                    <a:pt x="546" y="210"/>
                  </a:lnTo>
                  <a:lnTo>
                    <a:pt x="564" y="225"/>
                  </a:lnTo>
                  <a:lnTo>
                    <a:pt x="580" y="240"/>
                  </a:lnTo>
                  <a:lnTo>
                    <a:pt x="598" y="257"/>
                  </a:lnTo>
                  <a:lnTo>
                    <a:pt x="612" y="270"/>
                  </a:lnTo>
                  <a:lnTo>
                    <a:pt x="628" y="286"/>
                  </a:lnTo>
                  <a:lnTo>
                    <a:pt x="644" y="303"/>
                  </a:lnTo>
                  <a:lnTo>
                    <a:pt x="661" y="322"/>
                  </a:lnTo>
                  <a:lnTo>
                    <a:pt x="675" y="339"/>
                  </a:lnTo>
                  <a:lnTo>
                    <a:pt x="691" y="357"/>
                  </a:lnTo>
                  <a:lnTo>
                    <a:pt x="709" y="379"/>
                  </a:lnTo>
                  <a:lnTo>
                    <a:pt x="725" y="400"/>
                  </a:lnTo>
                  <a:lnTo>
                    <a:pt x="741" y="422"/>
                  </a:lnTo>
                  <a:lnTo>
                    <a:pt x="757" y="445"/>
                  </a:lnTo>
                  <a:lnTo>
                    <a:pt x="771" y="468"/>
                  </a:lnTo>
                  <a:lnTo>
                    <a:pt x="787" y="492"/>
                  </a:lnTo>
                  <a:lnTo>
                    <a:pt x="799" y="513"/>
                  </a:lnTo>
                  <a:lnTo>
                    <a:pt x="811" y="533"/>
                  </a:lnTo>
                  <a:lnTo>
                    <a:pt x="821" y="556"/>
                  </a:lnTo>
                  <a:lnTo>
                    <a:pt x="829" y="572"/>
                  </a:lnTo>
                  <a:lnTo>
                    <a:pt x="1034" y="500"/>
                  </a:lnTo>
                  <a:lnTo>
                    <a:pt x="714" y="878"/>
                  </a:lnTo>
                  <a:lnTo>
                    <a:pt x="150" y="817"/>
                  </a:lnTo>
                  <a:lnTo>
                    <a:pt x="374" y="735"/>
                  </a:lnTo>
                  <a:lnTo>
                    <a:pt x="359" y="709"/>
                  </a:lnTo>
                  <a:lnTo>
                    <a:pt x="344" y="683"/>
                  </a:lnTo>
                  <a:lnTo>
                    <a:pt x="324" y="655"/>
                  </a:lnTo>
                  <a:lnTo>
                    <a:pt x="302" y="626"/>
                  </a:lnTo>
                  <a:lnTo>
                    <a:pt x="283" y="602"/>
                  </a:lnTo>
                  <a:lnTo>
                    <a:pt x="262" y="578"/>
                  </a:lnTo>
                  <a:lnTo>
                    <a:pt x="239" y="555"/>
                  </a:lnTo>
                  <a:lnTo>
                    <a:pt x="217" y="535"/>
                  </a:lnTo>
                  <a:lnTo>
                    <a:pt x="195" y="517"/>
                  </a:lnTo>
                  <a:lnTo>
                    <a:pt x="169" y="496"/>
                  </a:lnTo>
                  <a:lnTo>
                    <a:pt x="144" y="478"/>
                  </a:lnTo>
                  <a:lnTo>
                    <a:pt x="121" y="461"/>
                  </a:lnTo>
                  <a:lnTo>
                    <a:pt x="97" y="446"/>
                  </a:lnTo>
                  <a:lnTo>
                    <a:pt x="69" y="429"/>
                  </a:lnTo>
                  <a:lnTo>
                    <a:pt x="40" y="414"/>
                  </a:lnTo>
                  <a:lnTo>
                    <a:pt x="20" y="406"/>
                  </a:lnTo>
                  <a:lnTo>
                    <a:pt x="0" y="396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ccccff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</p:spTree>
  </p:cSld>
  <p:transition spd="slow" advTm="60000">
    <p:zoom dir="ou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5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0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5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70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3000"/>
                            </p:stCondLst>
                            <p:childTnLst>
                              <p:par>
                                <p:cTn id="575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8500"/>
                            </p:stCondLst>
                            <p:childTnLst>
                              <p:par>
                                <p:cTn id="582" nodeType="after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evt="end">
                                        <p:tn val="582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3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ustoms administrations have turned increasingly to Risk Management as an effective means of meeting national object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dministrations provide facilitation while maintaining control over the international movement of goods and pers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Risk management helps in matching Customs priorities to resour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in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1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5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75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International Organisations encourage and support the adoption of modern Customs control techniques, using Risk Management principles., e.g.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5240">
              <a:lnSpc>
                <a:spcPct val="80000"/>
              </a:lnSpc>
              <a:spcBef>
                <a:spcPts val="1624"/>
              </a:spcBef>
              <a:spcAft>
                <a:spcPts val="13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TO/Kyoto Conven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5240">
              <a:lnSpc>
                <a:spcPct val="80000"/>
              </a:lnSpc>
              <a:spcBef>
                <a:spcPts val="1624"/>
              </a:spcBef>
              <a:spcAft>
                <a:spcPts val="13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PEC Sub-Committee on Customs Proced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65240">
              <a:lnSpc>
                <a:spcPct val="80000"/>
              </a:lnSpc>
              <a:spcBef>
                <a:spcPts val="1624"/>
              </a:spcBef>
              <a:spcAft>
                <a:spcPts val="13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ransport Industry representative bod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7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management within Customs can be strategic, operational or tacti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4" name="AutoShape 8"/>
          <p:cNvSpPr/>
          <p:nvPr/>
        </p:nvSpPr>
        <p:spPr>
          <a:xfrm flipH="1">
            <a:off x="1980360" y="2819520"/>
            <a:ext cx="6324840" cy="3124080"/>
          </a:xfrm>
          <a:custGeom>
            <a:avLst/>
            <a:gdLst>
              <a:gd name="textAreaLeft" fmla="*/ -360 w 6324840"/>
              <a:gd name="textAreaRight" fmla="*/ 6324840 w 632484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Strategic:</a:t>
            </a: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 Risks to 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Customs goals and objectives,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e.g.,prohibitions and 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restrictions, (social or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economic), health,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revenue, environment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228600" y="2971800"/>
            <a:ext cx="3014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6" name="Freeform 12"/>
          <p:cNvSpPr/>
          <p:nvPr/>
        </p:nvSpPr>
        <p:spPr>
          <a:xfrm>
            <a:off x="243000" y="2989440"/>
            <a:ext cx="2604960" cy="2838240"/>
          </a:xfrm>
          <a:custGeom>
            <a:avLst/>
            <a:gdLst>
              <a:gd name="textAreaLeft" fmla="*/ 0 w 2604960"/>
              <a:gd name="textAreaRight" fmla="*/ 2605320 w 260496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1641" h="1788">
                <a:moveTo>
                  <a:pt x="747" y="177"/>
                </a:moveTo>
                <a:lnTo>
                  <a:pt x="674" y="0"/>
                </a:lnTo>
                <a:lnTo>
                  <a:pt x="1641" y="272"/>
                </a:lnTo>
                <a:lnTo>
                  <a:pt x="1094" y="1022"/>
                </a:lnTo>
                <a:lnTo>
                  <a:pt x="1025" y="855"/>
                </a:lnTo>
                <a:lnTo>
                  <a:pt x="815" y="944"/>
                </a:lnTo>
                <a:lnTo>
                  <a:pt x="815" y="1788"/>
                </a:lnTo>
                <a:lnTo>
                  <a:pt x="0" y="1788"/>
                </a:lnTo>
                <a:lnTo>
                  <a:pt x="0" y="394"/>
                </a:lnTo>
                <a:lnTo>
                  <a:pt x="747" y="177"/>
                </a:lnTo>
                <a:close/>
              </a:path>
            </a:pathLst>
          </a:custGeom>
          <a:solidFill>
            <a:srgbClr val="ff505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7" name="Freeform 13"/>
          <p:cNvSpPr/>
          <p:nvPr/>
        </p:nvSpPr>
        <p:spPr>
          <a:xfrm>
            <a:off x="644400" y="3656160"/>
            <a:ext cx="2248200" cy="2481120"/>
          </a:xfrm>
          <a:custGeom>
            <a:avLst/>
            <a:gdLst>
              <a:gd name="textAreaLeft" fmla="*/ 0 w 2248200"/>
              <a:gd name="textAreaRight" fmla="*/ 2248560 w 2248200"/>
              <a:gd name="textAreaTop" fmla="*/ 0 h 2481120"/>
              <a:gd name="textAreaBottom" fmla="*/ 2481480 h 2481120"/>
            </a:gdLst>
            <a:ahLst/>
            <a:rect l="textAreaLeft" t="textAreaTop" r="textAreaRight" b="textAreaBottom"/>
            <a:pathLst>
              <a:path w="1416" h="1563">
                <a:moveTo>
                  <a:pt x="751" y="101"/>
                </a:moveTo>
                <a:lnTo>
                  <a:pt x="0" y="323"/>
                </a:lnTo>
                <a:lnTo>
                  <a:pt x="0" y="1563"/>
                </a:lnTo>
                <a:lnTo>
                  <a:pt x="618" y="1563"/>
                </a:lnTo>
                <a:lnTo>
                  <a:pt x="618" y="765"/>
                </a:lnTo>
                <a:lnTo>
                  <a:pt x="966" y="615"/>
                </a:lnTo>
                <a:lnTo>
                  <a:pt x="1014" y="729"/>
                </a:lnTo>
                <a:lnTo>
                  <a:pt x="1416" y="182"/>
                </a:lnTo>
                <a:lnTo>
                  <a:pt x="715" y="0"/>
                </a:lnTo>
                <a:lnTo>
                  <a:pt x="751" y="101"/>
                </a:lnTo>
                <a:close/>
              </a:path>
            </a:pathLst>
          </a:custGeom>
          <a:solidFill>
            <a:srgbClr val="99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8" name="Freeform 14"/>
          <p:cNvSpPr/>
          <p:nvPr/>
        </p:nvSpPr>
        <p:spPr>
          <a:xfrm>
            <a:off x="1170000" y="4189320"/>
            <a:ext cx="2057400" cy="227196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2271960"/>
              <a:gd name="textAreaBottom" fmla="*/ 2271960 h 2271960"/>
            </a:gdLst>
            <a:ahLst/>
            <a:rect l="textAreaLeft" t="textAreaTop" r="textAreaRight" b="textAreaBottom"/>
            <a:pathLst>
              <a:path w="1296" h="1431">
                <a:moveTo>
                  <a:pt x="688" y="90"/>
                </a:moveTo>
                <a:lnTo>
                  <a:pt x="0" y="294"/>
                </a:lnTo>
                <a:lnTo>
                  <a:pt x="0" y="1431"/>
                </a:lnTo>
                <a:lnTo>
                  <a:pt x="565" y="1431"/>
                </a:lnTo>
                <a:lnTo>
                  <a:pt x="565" y="700"/>
                </a:lnTo>
                <a:lnTo>
                  <a:pt x="883" y="563"/>
                </a:lnTo>
                <a:lnTo>
                  <a:pt x="926" y="667"/>
                </a:lnTo>
                <a:lnTo>
                  <a:pt x="1296" y="166"/>
                </a:lnTo>
                <a:lnTo>
                  <a:pt x="654" y="0"/>
                </a:lnTo>
                <a:lnTo>
                  <a:pt x="688" y="9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79" name="Rectangle 10"/>
          <p:cNvSpPr/>
          <p:nvPr/>
        </p:nvSpPr>
        <p:spPr>
          <a:xfrm rot="20439600">
            <a:off x="2590920" y="4571640"/>
            <a:ext cx="6095880" cy="609480"/>
          </a:xfrm>
          <a:prstGeom prst="rect">
            <a:avLst/>
          </a:prstGeom>
          <a:solidFill>
            <a:srgbClr val="ff5050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- usually longer term strategi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651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management within Customs can be strategic, operational or tacti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85" name="AutoShape 8"/>
          <p:cNvSpPr/>
          <p:nvPr/>
        </p:nvSpPr>
        <p:spPr>
          <a:xfrm flipH="1">
            <a:off x="1980360" y="2819520"/>
            <a:ext cx="6324840" cy="3124080"/>
          </a:xfrm>
          <a:custGeom>
            <a:avLst/>
            <a:gdLst>
              <a:gd name="textAreaLeft" fmla="*/ -360 w 6324840"/>
              <a:gd name="textAreaRight" fmla="*/ 6324840 w 632484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Operational:</a:t>
            </a: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Decisions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and action plans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on measures taken to deal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 with the assessed risks.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Deployment of resources; </a:t>
            </a:r>
            <a:br>
              <a:rPr sz="2600"/>
            </a:br>
            <a:r>
              <a:rPr b="1" lang="en-US" sz="2600" spc="-1" strike="noStrike">
                <a:solidFill>
                  <a:srgbClr val="dddddd"/>
                </a:solidFill>
                <a:latin typeface="Comic Sans MS"/>
              </a:rPr>
              <a:t>monitoring and review.</a:t>
            </a:r>
            <a:r>
              <a:rPr b="1" lang="en-US" sz="2800" spc="-1" strike="noStrike">
                <a:solidFill>
                  <a:srgbClr val="dddddd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86" name="Group 17"/>
          <p:cNvGrpSpPr/>
          <p:nvPr/>
        </p:nvGrpSpPr>
        <p:grpSpPr>
          <a:xfrm>
            <a:off x="228600" y="2971800"/>
            <a:ext cx="3014640" cy="3505320"/>
            <a:chOff x="228600" y="2971800"/>
            <a:chExt cx="3014640" cy="3505320"/>
          </a:xfrm>
        </p:grpSpPr>
        <p:sp>
          <p:nvSpPr>
            <p:cNvPr id="287" name="Rectangle 12"/>
            <p:cNvSpPr/>
            <p:nvPr/>
          </p:nvSpPr>
          <p:spPr>
            <a:xfrm>
              <a:off x="228600" y="2971800"/>
              <a:ext cx="301464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88" name="Freeform 13"/>
            <p:cNvSpPr/>
            <p:nvPr/>
          </p:nvSpPr>
          <p:spPr>
            <a:xfrm>
              <a:off x="243000" y="2989440"/>
              <a:ext cx="2604960" cy="2838240"/>
            </a:xfrm>
            <a:custGeom>
              <a:avLst/>
              <a:gdLst>
                <a:gd name="textAreaLeft" fmla="*/ 0 w 2604960"/>
                <a:gd name="textAreaRight" fmla="*/ 2605320 w 260496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1641" h="1788">
                  <a:moveTo>
                    <a:pt x="747" y="177"/>
                  </a:moveTo>
                  <a:lnTo>
                    <a:pt x="674" y="0"/>
                  </a:lnTo>
                  <a:lnTo>
                    <a:pt x="1641" y="272"/>
                  </a:lnTo>
                  <a:lnTo>
                    <a:pt x="1094" y="1022"/>
                  </a:lnTo>
                  <a:lnTo>
                    <a:pt x="1025" y="855"/>
                  </a:lnTo>
                  <a:lnTo>
                    <a:pt x="815" y="944"/>
                  </a:lnTo>
                  <a:lnTo>
                    <a:pt x="815" y="1788"/>
                  </a:lnTo>
                  <a:lnTo>
                    <a:pt x="0" y="1788"/>
                  </a:lnTo>
                  <a:lnTo>
                    <a:pt x="0" y="394"/>
                  </a:lnTo>
                  <a:lnTo>
                    <a:pt x="747" y="177"/>
                  </a:lnTo>
                  <a:close/>
                </a:path>
              </a:pathLst>
            </a:custGeom>
            <a:solidFill>
              <a:srgbClr val="ff505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644400" y="3656160"/>
              <a:ext cx="2248200" cy="2481120"/>
            </a:xfrm>
            <a:custGeom>
              <a:avLst/>
              <a:gdLst>
                <a:gd name="textAreaLeft" fmla="*/ 0 w 2248200"/>
                <a:gd name="textAreaRight" fmla="*/ 2248560 w 2248200"/>
                <a:gd name="textAreaTop" fmla="*/ 0 h 2481120"/>
                <a:gd name="textAreaBottom" fmla="*/ 2481480 h 2481120"/>
              </a:gdLst>
              <a:ahLst/>
              <a:rect l="textAreaLeft" t="textAreaTop" r="textAreaRight" b="textAreaBottom"/>
              <a:pathLst>
                <a:path w="1416" h="1563">
                  <a:moveTo>
                    <a:pt x="751" y="101"/>
                  </a:moveTo>
                  <a:lnTo>
                    <a:pt x="0" y="323"/>
                  </a:lnTo>
                  <a:lnTo>
                    <a:pt x="0" y="1563"/>
                  </a:lnTo>
                  <a:lnTo>
                    <a:pt x="618" y="1563"/>
                  </a:lnTo>
                  <a:lnTo>
                    <a:pt x="618" y="765"/>
                  </a:lnTo>
                  <a:lnTo>
                    <a:pt x="966" y="615"/>
                  </a:lnTo>
                  <a:lnTo>
                    <a:pt x="1014" y="729"/>
                  </a:lnTo>
                  <a:lnTo>
                    <a:pt x="1416" y="182"/>
                  </a:lnTo>
                  <a:lnTo>
                    <a:pt x="715" y="0"/>
                  </a:lnTo>
                  <a:lnTo>
                    <a:pt x="751" y="101"/>
                  </a:lnTo>
                  <a:close/>
                </a:path>
              </a:pathLst>
            </a:custGeom>
            <a:solidFill>
              <a:srgbClr val="99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1170000" y="4189320"/>
              <a:ext cx="2057400" cy="227196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1296" h="1431">
                  <a:moveTo>
                    <a:pt x="688" y="90"/>
                  </a:moveTo>
                  <a:lnTo>
                    <a:pt x="0" y="294"/>
                  </a:lnTo>
                  <a:lnTo>
                    <a:pt x="0" y="1431"/>
                  </a:lnTo>
                  <a:lnTo>
                    <a:pt x="565" y="1431"/>
                  </a:lnTo>
                  <a:lnTo>
                    <a:pt x="565" y="700"/>
                  </a:lnTo>
                  <a:lnTo>
                    <a:pt x="883" y="563"/>
                  </a:lnTo>
                  <a:lnTo>
                    <a:pt x="926" y="667"/>
                  </a:lnTo>
                  <a:lnTo>
                    <a:pt x="1296" y="166"/>
                  </a:lnTo>
                  <a:lnTo>
                    <a:pt x="654" y="0"/>
                  </a:lnTo>
                  <a:lnTo>
                    <a:pt x="688" y="90"/>
                  </a:lnTo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  <p:sp>
        <p:nvSpPr>
          <p:cNvPr id="291" name="Rectangle 11"/>
          <p:cNvSpPr/>
          <p:nvPr/>
        </p:nvSpPr>
        <p:spPr>
          <a:xfrm rot="20682600">
            <a:off x="3276360" y="4419360"/>
            <a:ext cx="4787640" cy="609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- medium term strategi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wipe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17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management within Customs can be strategic, operational or tactic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297" name="AutoShape 8"/>
          <p:cNvSpPr/>
          <p:nvPr/>
        </p:nvSpPr>
        <p:spPr>
          <a:xfrm flipH="1">
            <a:off x="1980360" y="2819520"/>
            <a:ext cx="6324840" cy="3124080"/>
          </a:xfrm>
          <a:custGeom>
            <a:avLst/>
            <a:gdLst>
              <a:gd name="textAreaLeft" fmla="*/ -360 w 6324840"/>
              <a:gd name="textAreaRight" fmla="*/ 6324840 w 632484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66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Tactical: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Used by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officers at their workplace,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to deal with immediate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 situations, working within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set parameters and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to approved procedure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grpSp>
        <p:nvGrpSpPr>
          <p:cNvPr id="298" name="Group 17"/>
          <p:cNvGrpSpPr/>
          <p:nvPr/>
        </p:nvGrpSpPr>
        <p:grpSpPr>
          <a:xfrm>
            <a:off x="228600" y="2971800"/>
            <a:ext cx="3014640" cy="3505320"/>
            <a:chOff x="228600" y="2971800"/>
            <a:chExt cx="3014640" cy="3505320"/>
          </a:xfrm>
        </p:grpSpPr>
        <p:sp>
          <p:nvSpPr>
            <p:cNvPr id="299" name="Rectangle 12"/>
            <p:cNvSpPr/>
            <p:nvPr/>
          </p:nvSpPr>
          <p:spPr>
            <a:xfrm>
              <a:off x="228600" y="2971800"/>
              <a:ext cx="301464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300" name="Freeform 13"/>
            <p:cNvSpPr/>
            <p:nvPr/>
          </p:nvSpPr>
          <p:spPr>
            <a:xfrm>
              <a:off x="243000" y="2989440"/>
              <a:ext cx="2604960" cy="2838240"/>
            </a:xfrm>
            <a:custGeom>
              <a:avLst/>
              <a:gdLst>
                <a:gd name="textAreaLeft" fmla="*/ 0 w 2604960"/>
                <a:gd name="textAreaRight" fmla="*/ 2605320 w 260496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1641" h="1788">
                  <a:moveTo>
                    <a:pt x="747" y="177"/>
                  </a:moveTo>
                  <a:lnTo>
                    <a:pt x="674" y="0"/>
                  </a:lnTo>
                  <a:lnTo>
                    <a:pt x="1641" y="272"/>
                  </a:lnTo>
                  <a:lnTo>
                    <a:pt x="1094" y="1022"/>
                  </a:lnTo>
                  <a:lnTo>
                    <a:pt x="1025" y="855"/>
                  </a:lnTo>
                  <a:lnTo>
                    <a:pt x="815" y="944"/>
                  </a:lnTo>
                  <a:lnTo>
                    <a:pt x="815" y="1788"/>
                  </a:lnTo>
                  <a:lnTo>
                    <a:pt x="0" y="1788"/>
                  </a:lnTo>
                  <a:lnTo>
                    <a:pt x="0" y="394"/>
                  </a:lnTo>
                  <a:lnTo>
                    <a:pt x="747" y="177"/>
                  </a:lnTo>
                  <a:close/>
                </a:path>
              </a:pathLst>
            </a:custGeom>
            <a:solidFill>
              <a:srgbClr val="ff505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301" name="Freeform 14"/>
            <p:cNvSpPr/>
            <p:nvPr/>
          </p:nvSpPr>
          <p:spPr>
            <a:xfrm>
              <a:off x="644400" y="3656160"/>
              <a:ext cx="2248200" cy="2481120"/>
            </a:xfrm>
            <a:custGeom>
              <a:avLst/>
              <a:gdLst>
                <a:gd name="textAreaLeft" fmla="*/ 0 w 2248200"/>
                <a:gd name="textAreaRight" fmla="*/ 2248560 w 2248200"/>
                <a:gd name="textAreaTop" fmla="*/ 0 h 2481120"/>
                <a:gd name="textAreaBottom" fmla="*/ 2481480 h 2481120"/>
              </a:gdLst>
              <a:ahLst/>
              <a:rect l="textAreaLeft" t="textAreaTop" r="textAreaRight" b="textAreaBottom"/>
              <a:pathLst>
                <a:path w="1416" h="1563">
                  <a:moveTo>
                    <a:pt x="751" y="101"/>
                  </a:moveTo>
                  <a:lnTo>
                    <a:pt x="0" y="323"/>
                  </a:lnTo>
                  <a:lnTo>
                    <a:pt x="0" y="1563"/>
                  </a:lnTo>
                  <a:lnTo>
                    <a:pt x="618" y="1563"/>
                  </a:lnTo>
                  <a:lnTo>
                    <a:pt x="618" y="765"/>
                  </a:lnTo>
                  <a:lnTo>
                    <a:pt x="966" y="615"/>
                  </a:lnTo>
                  <a:lnTo>
                    <a:pt x="1014" y="729"/>
                  </a:lnTo>
                  <a:lnTo>
                    <a:pt x="1416" y="182"/>
                  </a:lnTo>
                  <a:lnTo>
                    <a:pt x="715" y="0"/>
                  </a:lnTo>
                  <a:lnTo>
                    <a:pt x="751" y="101"/>
                  </a:lnTo>
                  <a:close/>
                </a:path>
              </a:pathLst>
            </a:custGeom>
            <a:solidFill>
              <a:srgbClr val="99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  <p:sp>
          <p:nvSpPr>
            <p:cNvPr id="302" name="Freeform 15"/>
            <p:cNvSpPr/>
            <p:nvPr/>
          </p:nvSpPr>
          <p:spPr>
            <a:xfrm>
              <a:off x="1170000" y="4189320"/>
              <a:ext cx="2057400" cy="227196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2271960"/>
                <a:gd name="textAreaBottom" fmla="*/ 2271960 h 2271960"/>
              </a:gdLst>
              <a:ahLst/>
              <a:rect l="textAreaLeft" t="textAreaTop" r="textAreaRight" b="textAreaBottom"/>
              <a:pathLst>
                <a:path w="1296" h="1431">
                  <a:moveTo>
                    <a:pt x="688" y="90"/>
                  </a:moveTo>
                  <a:lnTo>
                    <a:pt x="0" y="294"/>
                  </a:lnTo>
                  <a:lnTo>
                    <a:pt x="0" y="1431"/>
                  </a:lnTo>
                  <a:lnTo>
                    <a:pt x="565" y="1431"/>
                  </a:lnTo>
                  <a:lnTo>
                    <a:pt x="565" y="700"/>
                  </a:lnTo>
                  <a:lnTo>
                    <a:pt x="883" y="563"/>
                  </a:lnTo>
                  <a:lnTo>
                    <a:pt x="926" y="667"/>
                  </a:lnTo>
                  <a:lnTo>
                    <a:pt x="1296" y="166"/>
                  </a:lnTo>
                  <a:lnTo>
                    <a:pt x="654" y="0"/>
                  </a:lnTo>
                  <a:lnTo>
                    <a:pt x="688" y="90"/>
                  </a:lnTo>
                  <a:close/>
                </a:path>
              </a:pathLst>
            </a:custGeom>
            <a:solidFill>
              <a:srgbClr val="ffff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ccecff"/>
                </a:solidFill>
                <a:latin typeface="Garamond"/>
              </a:endParaRPr>
            </a:p>
          </p:txBody>
        </p:sp>
      </p:grpSp>
      <p:sp>
        <p:nvSpPr>
          <p:cNvPr id="303" name="Rectangle 11"/>
          <p:cNvSpPr/>
          <p:nvPr/>
        </p:nvSpPr>
        <p:spPr>
          <a:xfrm rot="20779200">
            <a:off x="3352680" y="4343400"/>
            <a:ext cx="4724640" cy="609480"/>
          </a:xfrm>
          <a:prstGeom prst="rect">
            <a:avLst/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- short term strategi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wipe dir="l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17" presetSubtype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11412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conomic benefits, by facilitating the movement of goods, ships, aircraft and people – when rated low ris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1412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Makes more effective use of existing skills and experience – giving better resul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11412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mproves the quality of Customs controls – information and accountabil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4920" y="1905120"/>
            <a:ext cx="7010280" cy="609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you should use Risk Management: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wipe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9000"/>
                            </p:stCondLst>
                            <p:childTnLst>
                              <p:par>
                                <p:cTn id="723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5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2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7720" y="312372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process helps Administrations focus on priorities and in decisions on deploying limited resources to deal with the highest r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304920" y="1905120"/>
            <a:ext cx="7010280" cy="609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you should use Risk Management: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99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you use it in Customs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838080" y="23623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first step is to look at your Customs context.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488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role of Customs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488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are your national priorities and the expectations of the government and the public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649"/>
              </a:spcBef>
              <a:spcAft>
                <a:spcPts val="488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nature of your operational environment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45720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you st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500"/>
                            </p:stCondLst>
                            <p:childTnLst>
                              <p:par>
                                <p:cTn id="761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7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9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773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5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85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581280" y="6095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</a:rPr>
              <a:t>Mouse ‘Click’ to move on to the next slide</a:t>
            </a:r>
            <a:endParaRPr b="1" lang="en-US" sz="1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59" name="AutoShape 5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85800" y="83808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85800" y="190512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use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85800" y="2971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is Risk Management used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85800" y="403848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 in Customs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685800" y="5105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99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you use it in Customs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30000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99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you use it in Customs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838080" y="16765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next steps in the Risk Management process are to:-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dentify the risks  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alyse the risks; and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valuate the risks,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but, if you are just starting on Risk Management planning: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304920" y="5334120"/>
            <a:ext cx="7315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does the information come from?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5029200" y="4648320"/>
            <a:ext cx="32004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does this?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500"/>
                            </p:stCondLst>
                            <p:childTnLst>
                              <p:par>
                                <p:cTn id="789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7000"/>
                            </p:stCondLst>
                            <p:childTnLst>
                              <p:par>
                                <p:cTn id="79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0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850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838080" y="1523880"/>
            <a:ext cx="7391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1774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Responsibilities must be allocated: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ppoint a Risk Management champion with appropriate qualifications, including experience and analytical skill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orm a Risk Management Committee, representative of operational area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nduct Risk Management Workshop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17748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etermine operating procedures. 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5867280" cy="5335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does the Risk Assess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500"/>
                            </p:stCondLst>
                            <p:childTnLst>
                              <p:par>
                                <p:cTn id="826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2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4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838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0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2500"/>
                            </p:stCondLst>
                            <p:childTnLst>
                              <p:par>
                                <p:cTn id="842" nodeType="after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4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400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838080" y="1523880"/>
            <a:ext cx="73915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0560" indent="-22860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dentify commodity or control risks; e.g., high duty rates or quantity controls, the demand for prohibited goods, such as drugs, pornography, traffic in CITES wildlife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520560" indent="-22860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esearch existing databases and records on commodity and trader histories.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520560" indent="-22860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valuate current procedures to identify potential control weaknesse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076960" cy="5335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rces of information for Risk Assess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5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1500"/>
                            </p:stCondLst>
                            <p:childTnLst>
                              <p:par>
                                <p:cTn id="865" nodeType="after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10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752480" y="1447920"/>
            <a:ext cx="6477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After identifying and analysing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risks, you can evaluate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hat is the likelihood of the risk event occurring?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838080" y="3276720"/>
            <a:ext cx="2743200" cy="22860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lmost certain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ikely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derat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Unlikely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are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3886200" y="3809880"/>
            <a:ext cx="2438280" cy="20574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What is the consequence if the risk event occurs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629400" y="2895480"/>
            <a:ext cx="20574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trem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ery high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derat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ow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Negligible?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80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6500"/>
                            </p:stCondLst>
                            <p:childTnLst>
                              <p:par>
                                <p:cTn id="89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3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9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6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2500"/>
                            </p:stCondLst>
                            <p:childTnLst>
                              <p:par>
                                <p:cTn id="918" nodeType="afterEffect" fill="hold" presetClass="entr" presetID="23" presetSubtype="27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60000"/>
                            </p:stCondLst>
                            <p:childTnLst>
                              <p:par>
                                <p:cTn id="92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3500"/>
                            </p:stCondLst>
                            <p:childTnLst>
                              <p:par>
                                <p:cTn id="928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70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500"/>
                            </p:stCondLst>
                            <p:childTnLst>
                              <p:par>
                                <p:cTn id="938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74000"/>
                            </p:stCondLst>
                            <p:childTnLst>
                              <p:par>
                                <p:cTn id="943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0"/>
                            </p:stCondLst>
                            <p:childTnLst>
                              <p:par>
                                <p:cTn id="948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81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143000" y="1676520"/>
            <a:ext cx="6781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You need to describe or to quantify exactly what the ‘Likelihood’ and ‘Consequence’ terms means to you.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is helps in ensuring a consistent approach in future risk assessment and review and monitoring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It promotes a common understanding within the Administration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18" presetSubtype="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1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6500"/>
                            </p:stCondLst>
                            <p:childTnLst>
                              <p:par>
                                <p:cTn id="963" nodeType="afterEffect" fill="hold" presetClass="entr" presetID="18" presetSubtype="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7" nodeType="afterEffect" fill="hold" presetClass="entr" presetID="18" presetSubtype="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143000" y="13716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fter establishing ‘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Likelihoo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’ and ‘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Consequence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’ you can use a table like this to set a level of risk.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e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838080" y="2743200"/>
          <a:ext cx="7467840" cy="2449440"/>
        </p:xfrm>
        <a:graphic>
          <a:graphicData uri="http://schemas.openxmlformats.org/drawingml/2006/table">
            <a:tbl>
              <a:tblPr/>
              <a:tblGrid>
                <a:gridCol w="1179720"/>
                <a:gridCol w="1257120"/>
                <a:gridCol w="1258920"/>
                <a:gridCol w="1257480"/>
                <a:gridCol w="1257120"/>
                <a:gridCol w="1257480"/>
              </a:tblGrid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trem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y high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gligibl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most certain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ver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ver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jor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ikely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ver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jor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ificant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gh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jor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ificant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Unlikely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jor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ificant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y 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ar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gnificant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rate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y 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y Low</a:t>
                      </a:r>
                      <a:endParaRPr b="1" lang="en-US" sz="1600" spc="-1" strike="noStrike">
                        <a:solidFill>
                          <a:srgbClr val="ccec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358" name="Rectangle 112"/>
          <p:cNvSpPr/>
          <p:nvPr/>
        </p:nvSpPr>
        <p:spPr>
          <a:xfrm>
            <a:off x="380880" y="5410080"/>
            <a:ext cx="800100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must define what these risk levels mean to you.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500"/>
                            </p:stCondLst>
                            <p:childTnLst>
                              <p:par>
                                <p:cTn id="981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9000"/>
                            </p:stCondLst>
                            <p:childTnLst>
                              <p:par>
                                <p:cTn id="986" nodeType="afterEffect" fill="hold" presetClass="entr" presetID="17" presetSubtype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1500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143000" y="1371600"/>
            <a:ext cx="7086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ow and very low level risks can normally be accepted, subject to on-going monitoring.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All other risks are included in the management plan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975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plan catalogues the risks, the level of risk, and describes a treatment.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treatment is the action proposed, (and perhaps the resources allocated).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  <a:p>
            <a:pPr marL="114480" indent="-1144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0">
    <p:zoom dir="out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18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6" nodeType="afterEffect" fill="hold" presetClass="entr" presetID="18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8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0" nodeType="afterEffect" fill="hold" presetClass="entr" presetID="18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18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4572000" y="1676520"/>
            <a:ext cx="32004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argete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i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1295280" y="1676520"/>
            <a:ext cx="3200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evelopment of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isk Profil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4572000" y="3048120"/>
            <a:ext cx="3200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amination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1295280" y="3048120"/>
            <a:ext cx="32004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ndustry audit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1295280" y="4419720"/>
            <a:ext cx="32004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ando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aminati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4572000" y="4419720"/>
            <a:ext cx="3200400" cy="12952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mplianc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mprovement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914400" y="1523880"/>
            <a:ext cx="723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1624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 common method of treating risks is to develop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risk profiling and targeting systems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1624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is means – in the case of goods – selecting transactions for specific checks, according to trader, agent, origin of goods, commodity code, duty rate, routing, value, etc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2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4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6" nodeType="after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914400" y="1447920"/>
            <a:ext cx="7238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1624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Comic Sans MS"/>
              </a:rPr>
              <a:t>Risk Profiles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are developed as a means of putting risk management into practice at the Operational level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4" name="Rectangle 14"/>
          <p:cNvSpPr/>
          <p:nvPr/>
        </p:nvSpPr>
        <p:spPr>
          <a:xfrm>
            <a:off x="1371600" y="2895480"/>
            <a:ext cx="6324480" cy="32004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 Risk Prof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normally specific to a Customs office. It describes: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isk areas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sessment of the level of risk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untermeasures adopted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vation date and review dates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ns of measuring effectiveness.</a:t>
            </a:r>
            <a:endParaRPr b="1" lang="en-US" sz="24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6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1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76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81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86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91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1500"/>
                            </p:stCondLst>
                            <p:childTnLst>
                              <p:par>
                                <p:cTn id="1096" nodeType="afterEffect" fill="hold" presetClass="entr" presetID="23" presetSubtype="27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581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</a:rPr>
              <a:t>Mouse ‘Click’ to move on to the next slide</a:t>
            </a:r>
            <a:endParaRPr b="1" lang="en-US" sz="1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6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040" y="20570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Good managemen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cess steps that enable improvement in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logical and systematic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ntifying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ing or minimising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30000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4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900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914400" y="1295280"/>
            <a:ext cx="7238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Using the profile information, consignments of goods, means of transport and people are targeted. 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profile information is used as the basis for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Selection Criteria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2286000" y="3657600"/>
            <a:ext cx="5791320" cy="22096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Documents received and processed by Customs, i.e., cargo and passenger manifests, goods declarations, are compared against the Selection Criteria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304920" y="3733920"/>
            <a:ext cx="2286000" cy="2133360"/>
          </a:xfrm>
          <a:prstGeom prst="pie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riteria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1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3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20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eating the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62120" y="3505320"/>
            <a:ext cx="7848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ions are made by manual checks of documents, or by using automated system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Selected transactions or movements are subject to the actions detailed in the profile or plan, e.g., physical examination, audit, etc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7" name="AutoShape 9"/>
          <p:cNvSpPr/>
          <p:nvPr/>
        </p:nvSpPr>
        <p:spPr>
          <a:xfrm>
            <a:off x="990720" y="1523880"/>
            <a:ext cx="2209680" cy="1981440"/>
          </a:xfrm>
          <a:prstGeom prst="pie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riteria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3505320" y="1828800"/>
            <a:ext cx="1981080" cy="13716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Documents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Comic Sans MS"/>
              </a:rPr>
              <a:t>and Data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5791320" y="1523880"/>
            <a:ext cx="2209680" cy="1981440"/>
          </a:xfrm>
          <a:prstGeom prst="pie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electe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movement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8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2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4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ff7c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38862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nitor &amp;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914400" y="13716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initial assessment made of the existence and level of risks must be evaluated on a regular basis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>
              <a:lnSpc>
                <a:spcPct val="105000"/>
              </a:lnSpc>
              <a:spcBef>
                <a:spcPts val="649"/>
              </a:spcBef>
              <a:spcAft>
                <a:spcPts val="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You need to measure the effectiveness of risk profiles and update as necessary.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066680" y="3733920"/>
            <a:ext cx="7010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liable reporting of examination result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066680" y="4267080"/>
            <a:ext cx="7010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Compliance measurement activitie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1066680" y="4800600"/>
            <a:ext cx="7010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Feedback from the business community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066680" y="5334120"/>
            <a:ext cx="7010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esults analysis and data comparis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0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3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75" nodeType="afterEffect" fill="hold" presetClass="entr" presetID="23" presetSubtype="27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80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90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6132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he starting point is the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Comic Sans MS"/>
              </a:rPr>
              <a:t>Action Plan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-496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llocate responsibilities, e.g., a Risk Management Champion and a working 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-496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aluate how Risk Management processes can be best applied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you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nation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-496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urvey existing skills and do a training needs assess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1320" indent="-496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talogue existing sources of data or information that can help in identifying ris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ing Risk Management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2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16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8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0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24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6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28" nodeType="afterEffect" fill="hold" presetClass="entr" presetID="16" presetSubtype="2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0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3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66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low chart existing proces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unicate and consult – within Customs, with other Agencies, the trading community and transport indus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66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Obtain IT tools or set up processes for effectively operating a selectivity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vide training in profiling/selectivity sk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52812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000066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Test and gain confidence in the Risk Management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ing Risk Management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out"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0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2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50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2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54" nodeType="afterEffect" fill="hold" presetClass="entr" presetID="16" presetSubtype="2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6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8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219320" y="114300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975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is presentation endeavors to cover briefly the concepts and the benefits of using Risk Management practices, particularly within Customs Administrations.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975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 processes and the many control options deserve further study, and many other sources of information on this topic are avail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0">
              <a:lnSpc>
                <a:spcPct val="80000"/>
              </a:lnSpc>
              <a:spcBef>
                <a:spcPts val="975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762120" y="3809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1600200" y="4800600"/>
            <a:ext cx="5791320" cy="838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0000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o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Facilitation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657600" y="5562720"/>
            <a:ext cx="5105520" cy="838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.. Risk Management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424" name="AutoShape 8">
            <a:hlinkClick r:id="" action="ppaction://hlinkshowjump?jump=endshow"/>
          </p:cNvPr>
          <p:cNvSpPr/>
          <p:nvPr/>
        </p:nvSpPr>
        <p:spPr>
          <a:xfrm>
            <a:off x="8534520" y="5791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pic>
        <p:nvPicPr>
          <p:cNvPr id="425" name="Picture 10" descr="G:\Pics\unctadb.gif"/>
          <p:cNvPicPr/>
          <p:nvPr/>
        </p:nvPicPr>
        <p:blipFill>
          <a:blip r:embed="rId1"/>
          <a:stretch/>
        </p:blipFill>
        <p:spPr>
          <a:xfrm>
            <a:off x="914400" y="838080"/>
            <a:ext cx="523800" cy="6858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over dir="r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6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8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0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2" nodeType="afterEffect" fill="hold" presetClass="entr" presetID="19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77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8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581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</a:rPr>
              <a:t>Mouse ‘Click’ to move on to the next slide</a:t>
            </a:r>
            <a:endParaRPr b="1" lang="en-US" sz="1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2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066680" y="1905120"/>
            <a:ext cx="7010640" cy="38862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990360" y="2133360"/>
            <a:ext cx="69339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Risk Manag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the name given to a logical and systematic method of identifying, analysing, treating and monitoring the risks involved in any activity or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581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</a:rPr>
              <a:t>Mouse ‘Click’ to move on to the next slide</a:t>
            </a:r>
            <a:endParaRPr b="1" lang="en-US" sz="18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79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1905120"/>
            <a:ext cx="7010640" cy="38862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95280" y="2666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Risk Manag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methodology that helps managers make best use of their availabl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30000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Risk Management practices are widely used in public and the private sectors, covering a wide range of activities or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600" spc="-1" strike="noStrike">
                <a:solidFill>
                  <a:srgbClr val="000066"/>
                </a:solidFill>
                <a:latin typeface="Comic Sans MS"/>
              </a:rPr>
              <a:t>These include: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use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562720" y="1905120"/>
            <a:ext cx="2666880" cy="3962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Finance and Investment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Insuranc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Health Care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Public Institutions</a:t>
            </a:r>
            <a:endParaRPr b="1" lang="en-US" sz="2600" spc="-1" strike="noStrike">
              <a:solidFill>
                <a:srgbClr val="ccec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799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Govern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60000"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8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95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4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spcAft>
                <a:spcPts val="1301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mic Sans MS"/>
              </a:rPr>
              <a:t>Effective Risk Management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is a recognised and valued skil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spcAft>
                <a:spcPts val="13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ducational institutions have formal study courses and award degrees in Risk Manag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spcAft>
                <a:spcPts val="1301"/>
              </a:spcAft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33"/>
                </a:solidFill>
                <a:latin typeface="Comic Sans MS"/>
              </a:rPr>
              <a:t>The Risk Management process is well established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(International RM process standards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use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50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3">
            <a:hlinkClick r:id="" action="ppaction://hlinkshowjump?jump=nextslide"/>
          </p:cNvPr>
          <p:cNvSpPr/>
          <p:nvPr/>
        </p:nvSpPr>
        <p:spPr>
          <a:xfrm>
            <a:off x="85345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1" lang="en-US" sz="16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66680" y="1905120"/>
            <a:ext cx="7010640" cy="388620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240" y="28954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Risk Managemen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ow 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ntegral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art of business pla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85800" y="685800"/>
            <a:ext cx="7772400" cy="914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699f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uses Risk Management?</a:t>
            </a:r>
            <a:endParaRPr b="1" lang="en-US" sz="3200" spc="-1" strike="noStrike">
              <a:solidFill>
                <a:srgbClr val="ccecff"/>
              </a:solidFill>
              <a:latin typeface="Garamond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5800" y="3809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ecff"/>
              </a:solidFill>
              <a:latin typeface="Garamond"/>
            </a:endParaRPr>
          </a:p>
        </p:txBody>
      </p:sp>
    </p:spTree>
  </p:cSld>
  <p:transition spd="slow" advTm="45000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03:58:05Z</dcterms:created>
  <dc:creator>Roger Paull</dc:creator>
  <dc:description/>
  <dc:language>en-US</dc:language>
  <cp:lastModifiedBy>JHoover</cp:lastModifiedBy>
  <cp:lastPrinted>1999-08-19T04:35:35Z</cp:lastPrinted>
  <dcterms:modified xsi:type="dcterms:W3CDTF">2011-07-25T17:34:52Z</dcterms:modified>
  <cp:revision>68</cp:revision>
  <dc:subject/>
  <dc:title>Risk Manag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asycuda.org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My Documents\KL Presentation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